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823C1-5299-49C1-BBE8-46631085D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833E2-8113-4BAF-AF5D-351DA11FF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89DFC-37A8-48B9-8943-0AB6E1B00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6C439-A349-426C-A3BB-42E2B57FD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D987F-EC3B-4438-B5DC-1828A9357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B5293-35F1-4187-895F-53BF6D3AA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B66EA-C450-4994-BA6C-F2FE86712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40C82-91BA-40C5-8B62-782690C92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213CC-E2D6-4E6F-8743-4EBCD132B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46267-7DD3-41CB-8F11-9C62D57DA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C0662-8FA7-4927-ABAA-F7604EEB8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65046-483B-4361-A025-7C41F0496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2F0F6-E5DF-4DAF-B5FD-277E1F3448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2360" y="2133720"/>
            <a:ext cx="450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000048"/>
                </a:solidFill>
                <a:latin typeface="Arial"/>
              </a:rPr>
              <a:t>Matéria: Arial 4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771640" y="5084640"/>
            <a:ext cx="410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48"/>
                </a:solidFill>
                <a:latin typeface="Arial"/>
              </a:rPr>
              <a:t>Profa. Arial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rot="21394200">
            <a:off x="5651280" y="68904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48"/>
                </a:solidFill>
                <a:latin typeface="Arial"/>
              </a:rPr>
              <a:t>Curso: Arial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79280" y="1919160"/>
            <a:ext cx="8578800" cy="424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48"/>
                </a:solidFill>
                <a:latin typeface="Arial"/>
              </a:rPr>
              <a:t>Texto - Arial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11280" y="4565520"/>
            <a:ext cx="525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48"/>
                </a:solidFill>
                <a:latin typeface="Arial"/>
              </a:rPr>
              <a:t>Destaque- Arial 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116000" y="4508640"/>
            <a:ext cx="1584360" cy="863640"/>
          </a:xfrm>
          <a:custGeom>
            <a:avLst/>
            <a:gdLst>
              <a:gd name="textAreaLeft" fmla="*/ 247320 w 1584360"/>
              <a:gd name="textAreaRight" fmla="*/ 1386360 w 1584360"/>
              <a:gd name="textAreaTop" fmla="*/ 216000 h 863640"/>
              <a:gd name="textAreaBottom" fmla="*/ 648000 h 863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bbe0e3"/>
              </a:gs>
              <a:gs pos="100000">
                <a:srgbClr val="56676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9040" y="1031760"/>
            <a:ext cx="8182080" cy="9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000048"/>
                </a:solidFill>
                <a:latin typeface="Arial"/>
              </a:rPr>
              <a:t>Título Arial 4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7:18:25Z</dcterms:created>
  <dc:creator>IMS</dc:creator>
  <dc:description/>
  <dc:language>en-US</dc:language>
  <cp:lastModifiedBy>IMS</cp:lastModifiedBy>
  <dcterms:modified xsi:type="dcterms:W3CDTF">2008-09-09T17:19:11Z</dcterms:modified>
  <cp:revision>1</cp:revision>
  <dc:subject/>
  <dc:title>Slide 1</dc:title>
</cp:coreProperties>
</file>