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E578-F6E7-4581-98F3-E664E383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2D5F-463C-4FCC-B51A-AED2D2B7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703C-7CD5-4D0A-836E-CA1703F9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2DE4-2174-49B9-A21E-32DD11D4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3462-D2F8-49BA-AE7C-D5421DB7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BE5E-0D4E-40A9-8B21-5FE6DFCB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FE8D-C563-4E87-A6AB-B175DE2C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60BA-ADBE-424D-8ED5-9E2646C5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778C-73F8-4FD3-8A29-FAE6B32A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B084-FACC-4446-B831-2AFB6865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BD1-5DFE-47DD-8721-B52CB928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1C4B-CEDB-4DE0-9919-FEDE3279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2664-7191-4482-BD9A-BA176CE4D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19:11Z</dcterms:modified>
  <cp:revision>1</cp:revision>
  <dc:subject/>
  <dc:title>Slide 1</dc:title>
</cp:coreProperties>
</file>