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7018-FB50-4584-AB57-B02A7CF70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64C0-4CD5-4F78-8BC7-44B6DF0B5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C646-E314-44C9-9DA4-10826ADEB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89AE-1A9A-4703-97A9-49485F7D0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936C-C21D-4501-AC0B-AEF811F2E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AB50-477A-4D99-AEA5-3914669F7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3972-4AEA-43E1-B5B9-C872E0B3D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27A5-F7D2-4B44-A6FC-F5FBF6E12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F3D0-69E0-44D5-95CC-BB44DA030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AD13-19FF-45D0-9219-2E0B243B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E37B-175E-4CC0-B81B-1E3A9DD3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81F4-BF59-4E6F-86D5-97E417DB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E4D92-876B-4F77-8877-498D94F48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0:25:35Z</dcterms:created>
  <dc:creator>IMS</dc:creator>
  <dc:description/>
  <dc:language>en-US</dc:language>
  <cp:lastModifiedBy>IMS</cp:lastModifiedBy>
  <dcterms:modified xsi:type="dcterms:W3CDTF">2007-10-25T19:12:15Z</dcterms:modified>
  <cp:revision>6</cp:revision>
  <dc:subject/>
  <dc:title>Slide 1</dc:title>
</cp:coreProperties>
</file>