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3B6B-6CCF-41C6-B817-58A80C985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9EC4-9AAC-4C30-B4DA-A0CBD5054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B7AC-EC87-46C8-A60F-AD37C6F25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DB17-ECA1-4949-BE00-1AB3F24F9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864A-6BCA-4303-A289-2F7F48D4D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F130-FBF0-4F1F-A82A-06A38FC08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16DD-45C2-4248-B7D1-4304D2A74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A623-D9F4-4056-89F9-92DEB1511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B57D-8DF1-4290-995D-1F8987492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3613-8C1B-4A53-AC60-67DF27765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4D3A-750D-4197-80B5-98D66D9FB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80C9-2CC7-4524-9FE2-EE2E07B0E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9D563-96A6-4910-AA9F-144BB06750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4T20:25:35Z</dcterms:created>
  <dc:creator>IMS</dc:creator>
  <dc:description/>
  <dc:language>en-US</dc:language>
  <cp:lastModifiedBy>IMS</cp:lastModifiedBy>
  <dcterms:modified xsi:type="dcterms:W3CDTF">2007-10-25T19:12:15Z</dcterms:modified>
  <cp:revision>6</cp:revision>
  <dc:subject/>
  <dc:title>Slide 1</dc:title>
</cp:coreProperties>
</file>