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4C5F-D30B-4823-9DF3-A53D3C227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3CBA-3119-44F6-AF0E-20B88A3D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49C6-D576-4C16-887F-782C38448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4CC5-ED96-4530-9806-FCD0BBDC6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47A1-0F0E-4ABD-9AFD-C42AFEBC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EB5A-7882-40B1-8F63-65430C8F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6B41-E3D9-41EE-AED8-2F249703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597D-0381-49AD-90A5-2AA089D3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BEC5-28C6-450F-9956-3580663A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68B6-85F0-4E84-9D7E-30080496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908C-0AF8-4B59-9880-ED0C9269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219E-509F-4E6F-9FAD-DA6C738A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16AD-C9BD-45BE-AC32-EE8634AD8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4T20:28:44Z</dcterms:modified>
  <cp:revision>8</cp:revision>
  <dc:subject/>
  <dc:title>Slide 1</dc:title>
</cp:coreProperties>
</file>