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51B-E4B8-45EA-95EF-5F381FD9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AB0-D5FF-407D-A74D-D994AA7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EE7-B894-4F43-B533-714DFAA6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427-1A7A-4D47-A494-97D0403E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62D-C538-4053-84A4-E5CC085A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CA87-1A48-4198-AB60-033FB56F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347-ED64-4201-91DE-CCDB3093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549-1D05-41B1-8279-EE0E3D13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27E0-F7D8-4FF6-8F46-F83082C6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567-6BE5-4D4E-9AEA-EBF14EA8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EC2D-D5FF-4E40-91C7-C0BE49A6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969-F446-4088-AAF8-5E28F23B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3451-A6C6-42EF-A327-02B95C6BF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4T20:28:44Z</dcterms:modified>
  <cp:revision>8</cp:revision>
  <dc:subject/>
  <dc:title>Slide 1</dc:title>
</cp:coreProperties>
</file>