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94C7-3AF8-473D-8C27-F3F227FD5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75A9-E007-4E90-BBA6-93E817FD9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E068-6BA5-4B37-B576-9E7C01A30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7DC1-E593-4409-845F-E8E9330B4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8F09-41BA-4458-8E69-3211D157A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1B28-1BCF-4233-A7C1-DEBF79284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40DA-9681-40E8-91D0-B2EFC1798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A603-1C56-41B6-BA67-EA7DCB178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C99D-B631-4C09-A052-2BB6B241A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BAF4-9F7E-4EF6-9AC1-9FA96350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A799-0F0F-479D-A95E-6CFA3198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D04E-EEF1-4418-BBC3-B1447762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2C775-AF9B-4D45-80EF-DF7AA4F05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3:07:52Z</dcterms:created>
  <dc:creator>IMS</dc:creator>
  <dc:description/>
  <dc:language>en-US</dc:language>
  <cp:lastModifiedBy>IMS</cp:lastModifiedBy>
  <dcterms:modified xsi:type="dcterms:W3CDTF">2007-10-24T23:07:57Z</dcterms:modified>
  <cp:revision>1</cp:revision>
  <dc:subject/>
  <dc:title>Slide 1</dc:title>
</cp:coreProperties>
</file>