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FA3F1-99AD-4200-8380-08C847688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43510-92F3-4FD4-8FEA-83E188A99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54451-D7EA-491B-A8AA-8A0F727DF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D7054-FA96-4574-BE3F-D611B805B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066DF-072E-46BA-8052-4D6365553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2413C-7C68-421D-A230-9D6A2FAA0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48F82-9CD4-4BD3-AD6E-9EFACE20A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8D88A-991C-4813-A293-47D2D72A5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84986-1FFA-42EC-BDB0-8A2217D6C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4A3E2-BFD1-4D41-9077-7FE6CF23D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DB258-4CCA-44CE-8B6F-FF0DDFC4D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26177-554D-4A0D-A6CD-CDCE98F89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5D332-AADB-4263-9BA6-0376BFBF90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4T23:06:58Z</dcterms:created>
  <dc:creator>IMS</dc:creator>
  <dc:description/>
  <dc:language>en-US</dc:language>
  <cp:lastModifiedBy>IMS</cp:lastModifiedBy>
  <dcterms:modified xsi:type="dcterms:W3CDTF">2007-10-24T23:07:05Z</dcterms:modified>
  <cp:revision>1</cp:revision>
  <dc:subject/>
  <dc:title>Slide 1</dc:title>
</cp:coreProperties>
</file>