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6EA9-4B83-43AD-83FE-534B95963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8D45-80B9-4C0C-B391-29B8BDA63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C28D-BB82-4C6C-8B36-DC745978C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73A2-C95F-4F7D-8D3C-2B02AE5F5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472A-CE44-4BB8-84CF-7DF6AF447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3DF9-E63F-41FD-8231-199F36D99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403F-74E0-4EF1-B196-217EB0D5E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B9E7-2085-45B5-AF58-57ECF0D72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DC23-35ED-48C4-AF95-29F6F5EEF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C7AE-7411-4C14-B940-751CA7B0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2EDF-C363-44FF-9853-6FAD1CFF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E4F1-3B24-4C96-9A40-BAC23374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28D79-7040-41DB-BCC3-563FDE8CE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3:06:58Z</dcterms:created>
  <dc:creator>IMS</dc:creator>
  <dc:description/>
  <dc:language>en-US</dc:language>
  <cp:lastModifiedBy>IMS</cp:lastModifiedBy>
  <dcterms:modified xsi:type="dcterms:W3CDTF">2007-10-24T23:07:05Z</dcterms:modified>
  <cp:revision>1</cp:revision>
  <dc:subject/>
  <dc:title>Slide 1</dc:title>
</cp:coreProperties>
</file>