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2779-0F74-4FF4-8B55-0CBA80C75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9D99-913C-4336-B42D-A80124CA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9734-1B37-4E91-85D2-6C0ED0EF1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D383-9D79-498E-B008-52D41588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BC96-2110-44A7-B4DB-704B4A26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7906-3C87-4681-AA37-3A5DF574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CF77-2AD8-4C00-BC7A-4627CCF6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3723-A4FC-422F-9002-8B371298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F62C-334C-41B0-821E-B8E39F4E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C880-934D-45D5-9AEA-5030EA5F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CB32-9884-4DE1-8CCC-371F4866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BFE5-8162-48B5-BF5B-57BA24EE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8A7F-2DF3-40A2-A75B-F72031555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6:58Z</dcterms:created>
  <dc:creator>IMS</dc:creator>
  <dc:description/>
  <dc:language>en-US</dc:language>
  <cp:lastModifiedBy>IMS</cp:lastModifiedBy>
  <dcterms:modified xsi:type="dcterms:W3CDTF">2007-10-24T23:07:05Z</dcterms:modified>
  <cp:revision>1</cp:revision>
  <dc:subject/>
  <dc:title>Slide 1</dc:title>
</cp:coreProperties>
</file>