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835D-D57A-477F-A173-4CAA7273E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2284-A140-42A7-AF65-B21282C3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51F2-06FA-4FD9-AA25-BBB70B5EC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37F3-0CE2-4A43-A508-D174856D9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4311-4058-4C8A-9649-DA8ED79D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CC37-1081-448D-827C-27A9014A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C7AF-3D8F-4BDA-B38D-C7FECA9A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DE0D-ACB3-4841-94F2-82D7C5EB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FAA9-E7A9-4E95-B45D-484014B7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1E7B-A645-48FA-8F1E-EEBB5198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E50B-A8A4-4D6F-B1DA-3B909DA7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88FE-56E2-4D16-8492-4D92F7B5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BC74-81E7-417B-B62D-CA812D4FE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6:58Z</dcterms:created>
  <dc:creator>IMS</dc:creator>
  <dc:description/>
  <dc:language>en-US</dc:language>
  <cp:lastModifiedBy>IMS</cp:lastModifiedBy>
  <dcterms:modified xsi:type="dcterms:W3CDTF">2007-10-24T23:07:05Z</dcterms:modified>
  <cp:revision>1</cp:revision>
  <dc:subject/>
  <dc:title>Slide 1</dc:title>
</cp:coreProperties>
</file>