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C008-2237-420F-84C7-DA3D3286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FF37-EA1C-4FAA-8E6E-F7EA256D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C720-FC63-48A9-BF38-09C2C8F5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5C4A-748C-4485-946D-A7749BD1A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D9B4-799E-41F4-A055-5E90B73D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6C2D-FC65-484E-8FD2-5F3F726A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1BBB-6ED6-408C-ABA1-94488DA8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A8D0-8728-452D-BB3F-745D4097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F992-D12B-46E5-B2A9-321B2484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39ED-BF6F-4F44-A254-ABDEC01B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226D-2C7E-4747-97E4-4C8E0955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317A-E117-4BE1-ACF5-08E51149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6811-5210-4493-B846-3D72B4955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6:58Z</dcterms:created>
  <dc:creator>IMS</dc:creator>
  <dc:description/>
  <dc:language>en-US</dc:language>
  <cp:lastModifiedBy>IMS</cp:lastModifiedBy>
  <dcterms:modified xsi:type="dcterms:W3CDTF">2007-10-24T23:07:05Z</dcterms:modified>
  <cp:revision>1</cp:revision>
  <dc:subject/>
  <dc:title>Slide 1</dc:title>
</cp:coreProperties>
</file>