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0723-9053-4EF8-8035-925681091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887D-44D8-4E9A-BD19-C9155860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43D0-183D-4CDC-B161-9A7910469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0D36-ED90-4E4B-99DE-0907B822B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57A8-DE68-4B48-ADA3-6781261C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477B-4F23-4A5D-BB69-DF3FE024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1289-A12B-4B89-94B1-AAB37D7D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12B5-E0C7-4D44-BC1B-BB074275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556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708D-153A-4FFF-8932-FA0F3610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E692-0252-42E1-9A28-59857119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FA04-3EFF-435A-BC43-224C9840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C779-18F0-4350-972E-42C0B316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c2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5656-C5D2-4F28-A0E5-742C1FE17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2:55:37Z</dcterms:created>
  <dc:creator>IMS</dc:creator>
  <dc:description/>
  <dc:language>en-US</dc:language>
  <cp:lastModifiedBy>IMS</cp:lastModifiedBy>
  <dcterms:modified xsi:type="dcterms:W3CDTF">2007-10-24T22:55:59Z</dcterms:modified>
  <cp:revision>1</cp:revision>
  <dc:subject/>
  <dc:title>Slide 1</dc:title>
</cp:coreProperties>
</file>