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8023-327D-4663-869B-72F20F551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3AF6-553F-4053-8047-F045E50EB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76C2-0C3A-413E-AB04-D4A45C395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2679-47BE-4EC9-B25D-789ECE5BD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90CDE-3112-4F1B-AE65-06452696A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C12CE-FBF2-4C7D-813B-76ADFF78F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8AF03-9279-455E-8272-36C5B0C6E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7F24C-8562-41D1-A4F6-8D3896F36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1D786-27D7-4FF4-A725-668F0D247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18FC6-DAC2-47C3-9315-9515FB233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F04CA-DB3E-4DBA-B37E-0AC841FB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C420-F2E9-4EF5-A1BE-EBA539751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DCE87-71C2-4D4B-8AED-AF20D3A8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5DFAD-AA47-4741-974F-A62875039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58526-7F0C-4724-A574-67DC32E6D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5A01F-1303-46CD-A822-C6868413E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2E795-CAAC-4BAF-9C0D-C7AEB618D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0C43-9F17-4583-AEAB-C795DB846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195F-2CF9-4AA3-B40F-AECFBAFF1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EB40-BB75-4B83-944F-E7D4A3040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3730-8F89-4CF3-8335-67A33E794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B8CD-A9ED-48DA-BE85-347481A0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49E7-AFBB-4A4A-B409-7AA2C369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E077-279E-4A74-9DE9-3C21B427F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55BEF-2B2E-474B-9A2B-FC4AF53C81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9AAF0-8FD7-446F-9252-DCE0023719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41:00Z</dcterms:modified>
  <cp:revision>23</cp:revision>
  <dc:subject/>
  <dc:title>Slide 1</dc:title>
</cp:coreProperties>
</file>