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9A31-BA50-48A9-AD6A-BA9E353C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5469-F284-459F-B581-77190BD9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D8F-F6BA-4937-BA6B-BE853A89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3C3-D3CC-4479-9C3A-4DC8E626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985D-691A-4BB9-9033-42EE9E6E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82A-2070-45FF-9CAA-B244CBE9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1FF4-6494-4639-89BB-3DA5AA8E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A1FE-28C1-42B2-8A90-D3A9174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28E6-9AA1-4401-8FF7-056A997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5CC-52CE-4430-83B0-82D54394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933C-F012-402B-A3C3-E496FDBD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DD0-8911-4399-81AC-D4685FDB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13D1-92D4-48D5-824D-2C293E4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1E7B-9326-4615-BEC5-1C027B1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67D-D68B-45E3-8C8D-F88FDA4B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FD32-9F73-4F05-973A-86A0FCF1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65B-2E5C-4BD1-857E-FBAE81BF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1725-8386-49F4-BBCC-8497D9DA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642-27F4-4F08-B1A6-14D4516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8FE-485D-4362-9395-0764509A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376B-1004-43D1-911F-251D3D13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0EAA-A202-47B1-A7CC-FED22FC0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C38-7909-4E06-85A5-0B00A77F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B7C-0DBF-4AE8-BF4D-2270674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B94C-1694-49A0-B0F4-99F1DAE40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8FAB-84B3-46F0-94FE-A6AADB27E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41:00Z</dcterms:modified>
  <cp:revision>23</cp:revision>
  <dc:subject/>
  <dc:title>Slide 1</dc:title>
</cp:coreProperties>
</file>