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3D88-8A26-4C54-AC30-CD9DA1488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6900-D6B1-4B50-98FF-2D7081B8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622D-B5B2-44CC-A09B-427285338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22DF-9AC8-4D8C-8F24-21E8832B2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BC45-5834-4454-ADBE-728641011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4DBF-6EAA-4B6B-B6F1-D9C69AAC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F1C8-53A6-4ECF-A78B-7AC8D4AF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6592-28A7-403D-8EFE-1B748B17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AE6DB-4BB3-46E7-A727-72745268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E03A-6962-44BE-9667-31D235D9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B9BAD-735D-4712-AE79-3901A594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FBA3-B4FE-4490-A3F0-FE617BC3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F2F41-C46B-47D6-8FD5-422B9368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8AB1-C9A2-4AF4-8AE7-01CDB9B2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D91E-76CF-4D0E-8B52-6A0BF2DB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3F062-6562-432F-B45F-392CAFDF8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C9D7-794D-48E8-B974-1F6A3A042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70C7-F4D3-44CB-B033-A08BC329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6A83-E97F-43BB-B69E-8497AE25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1FA7-86EA-4012-9F9B-283D4858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F469-B8A2-4AEC-BDC4-514C747D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70C4-BF5A-4FD2-B0C7-2420C262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AC42-0F17-428A-B3D1-6B50A696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0B1E-1EA4-47E5-98EF-45D963A9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FDEC-3590-443A-8540-FBC351C6F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7911-5FA9-44C7-AC09-CC024DB9A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41:00Z</dcterms:modified>
  <cp:revision>23</cp:revision>
  <dc:subject/>
  <dc:title>Slide 1</dc:title>
</cp:coreProperties>
</file>