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94FF-32A3-432F-AF77-A7617A788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30AC-F69C-4614-8D6E-F6C53903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A462-DF9C-4A9C-8D9F-F4F6E73D3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7173-BFB7-4CB6-949D-930BC2FC6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9D149-99D4-4486-AE30-B40D52371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D795-F961-4B5D-92E5-25BC85D2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1FA8-F0D3-45C9-B01F-2BF42DBA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5B91-6D47-4402-9E66-0161CAD1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EDEE-8E7A-4883-9AFE-DE92A01A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12B4-85A5-4FDD-9231-B0ABB568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0FA4-C4FF-4744-A153-11B65DBC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793C-5238-48B0-982B-759F1B2B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E034-619D-4821-93E7-30E414D9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9F60-A040-439D-A5EF-3F90133E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B8DC-1FA2-4905-BF78-2D95969F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D60E5-7C09-4AF6-BD90-2F698EFB7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8C65-F886-4C9A-8D4A-5E047F861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2122-AB40-40C3-919A-EBF645F4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0828-912F-4E22-9899-FDD1C4D9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574E-FFDB-4263-A7CD-74F76B5E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A724-515D-44A2-9321-18957EE0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82F5-2612-4C1C-918E-09501EFC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AE09-8F86-475D-80B0-13A5D7B4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4FA0-3D0D-4CFC-8555-81870BDA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50D4-5B5E-46CF-B29A-838299CD2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82A6-0EAE-4B47-A4A5-A88455038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41:00Z</dcterms:modified>
  <cp:revision>23</cp:revision>
  <dc:subject/>
  <dc:title>Slide 1</dc:title>
</cp:coreProperties>
</file>