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0D89-60FB-4F95-B7DD-81237B82F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6920" y="396432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9903-A8EE-4BB2-9E2E-0DD64CB0B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044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9B33-FE89-4BD0-B892-1169DEF17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54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0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692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54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0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D776-FED9-4603-9030-D5A1D58C0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162D-52A7-4FA0-937E-F431F8CD6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7D62-2616-4DEA-9A87-37FC612B0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401E-BF53-4D9F-AAF0-24BEBD42F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D379-948A-461F-851D-A741C807B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280" y="340920"/>
            <a:ext cx="6923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A535-9854-439A-9386-93B69B7DE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83DC-4BD0-45EB-BC2D-FAE50878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044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245C-4BC9-4F75-8600-2216777F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E05C-D0AE-4ED0-BBEB-10A60860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a1d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745EC-044E-4A52-811C-F974F130F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0:50:04Z</dcterms:created>
  <dc:creator>IMS</dc:creator>
  <dc:description/>
  <dc:language>en-US</dc:language>
  <cp:lastModifiedBy>IMS</cp:lastModifiedBy>
  <dcterms:modified xsi:type="dcterms:W3CDTF">2007-10-23T00:50:09Z</dcterms:modified>
  <cp:revision>1</cp:revision>
  <dc:subject/>
  <dc:title>Slide 1</dc:title>
</cp:coreProperties>
</file>