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BCF8-3CF5-4EE5-BF8E-C5F701E71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A714-A5D5-48EE-B163-8B8AEF70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A56A-EADF-43AE-825F-3E17B2CAE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4079-9323-4D3D-AADF-90B4F6F6C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4254-6AD7-4774-8822-35C395B01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94B9-7D44-4607-891C-CAA6F2B8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74CC-9E59-45FC-97BD-DCB8C78F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FB82-A556-4AC9-A6A0-2C6A6B5D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D4B0-0DAC-40AC-B7C6-AFFF2AE5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3CE3-25C1-4785-AF9E-FE7E62CC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70EF-57AC-444E-8C4E-E1EB728E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7D62-802C-474F-BC93-BC81191B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93CB-CB71-4F4D-8F7E-23E616DD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5146-8E36-4B40-9418-3DE321D6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697A-07DA-4523-BF50-F3489C3D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6176-BCCB-4BC5-965B-D64D4F829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F40C-CBA6-4ED5-8271-F766ED641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ABF4-CE5B-41A3-A98D-4662DE93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C6D4-16AE-4B84-8899-3A72B7FB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4A5A-B901-4D2C-85F3-4A081871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424E-69B2-4545-828D-BAD42874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A702-7181-4B6A-BCB9-689ED95B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34D7-0716-4934-B559-5E8204F2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D589-578E-4D54-8E03-7AAB4CE9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4B57-8E57-4E72-95E0-E5D5EB4FAD2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CD4E-1F63-432D-925D-BD27E69C8AE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9:54Z</dcterms:modified>
  <cp:revision>22</cp:revision>
  <dc:subject/>
  <dc:title>Slide 1</dc:title>
</cp:coreProperties>
</file>