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DF7F-4820-40EE-88E2-28822A4A4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F832-9892-4177-BEDD-E98FC8C74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9143-46AB-40B1-B497-92DBB85D7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0284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5548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056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0284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5548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1E68-BA63-4AD5-8C1E-1ABFE4EBD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C117E-023E-472C-8F70-3F3B44ED3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27A78-BFA3-4D7D-BE5D-F25DF83ED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BB386-DF87-43F4-B0D5-DE106FE21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AD030-3835-4BF9-8463-DCF3A2D23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A801D-6EAA-4EAB-B779-FF84980C4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-17640"/>
            <a:ext cx="8447040" cy="36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8486D-52AC-41D0-8ACD-544D8A9B4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EB333-2113-4EA9-B781-B4A4DE23F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B4CC-E0E1-439E-A6B0-6965A64C5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AD7F3-B617-41CC-8D1E-D50607615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86D69-25A2-4148-95BC-133ECD7DB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B26D2-A62D-469D-8238-7E8D17245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AD3E1-475D-47A2-A0B4-18E3098CF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0284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5548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5056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0284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5548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17EBF-7C8D-4740-813B-A22B50BE2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22DB-DEA7-409C-98C0-95861BCE3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241A-6F02-4CB2-9E80-CDF8BDA24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FE3F-4781-40C9-A62B-195B599E6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-17640"/>
            <a:ext cx="8447040" cy="36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CCF5-A8CA-487D-8B53-DDF69886E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7859-0EF9-4D7E-A4E4-3A1AC445C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DF5F-319F-4888-84A5-124D2FB88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B47C-B53C-41FA-85F1-880BCA8C0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5EE4A-A144-40F0-A162-E8A1C1E571A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69BF5-FD7B-48FB-AAE5-219AAABD44B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920" y="3715920"/>
            <a:ext cx="551016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39:54Z</dcterms:modified>
  <cp:revision>22</cp:revision>
  <dc:subject/>
  <dc:title>Slide 1</dc:title>
</cp:coreProperties>
</file>