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4F80-AC6F-4B3A-80B7-894757155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01C8-FCDE-4478-9840-27C4AA510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E0D9-20A1-4880-BD1D-F67D5B432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AA6C-33C7-4F2F-9487-67B7F368B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E7147-D2AD-4744-B878-520100563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47725-D427-4D34-8256-0FC21FF22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5A70F-21DE-40CD-A46F-A2A81AB93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55874-BBE5-4383-96D1-CFC52B27C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C36A5-E6CF-4B99-8FA3-E1C83281D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A4C54-6294-4962-9AA4-B3EC13A5D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22EDE-B1BF-47DE-B18F-22AD9D662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7BB0-E368-468D-B395-9639682C3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E9BB9-73A4-439F-A8AC-207E0B841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E632A-B1E2-4CBE-B4C6-383121D92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5B5FB-E987-41CA-B2FE-5FB7AA191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CE5A2-EEF2-48E8-8340-12B0D174E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15CB9-849D-48D0-9F02-98584B797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FC1F-E3C4-4FD1-8ACD-016FACC28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25A4-8260-45A5-9755-35BEC9881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0324-136F-4528-9818-A299886A3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B672-0944-4698-AC32-8FFCDFEED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D56F-B3A5-4CA5-8BF6-CC066FA2A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1510-D6A7-46CC-BA64-615C646DA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E913-6E51-424E-AA0E-07E6A6333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BE896-CCA9-4118-8BF5-37D62DAE68A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A6980-DB6A-4AF3-AEC3-55455D6FA69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5:16Z</dcterms:modified>
  <cp:revision>23</cp:revision>
  <dc:subject/>
  <dc:title>Slide 1</dc:title>
</cp:coreProperties>
</file>