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A8F8-4719-4008-9B0E-8A8ACB5D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05FB-3F27-44A7-B74D-53921D39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28AB-0DBD-4ECC-AEB5-9317E195A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B021-2FFB-4D4E-B94C-AA54A75D8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1DEB-C3F5-43CF-87EB-5D33542E2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B75F-E1A1-4AAB-A63B-42A2197E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D958-1FD6-47E6-8382-517E9B77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5265-0404-4134-AF36-E93CABC1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05B8-C494-408B-80AC-863AF15F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9286-E04E-41B6-90B9-1EFF7079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80241-D057-4961-B6B5-89FC44E2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F155-5F37-4935-B84C-202D13A2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5551F-0528-4617-BD32-4D03E380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1F75-73FF-42E6-A8D7-37F3559A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D36F-E1DA-487A-9F97-5DF64389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C098D-4BFB-412B-A8E9-FEAF6EF0E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F043-41B9-4886-A077-6CF3B344C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4A61-2FBC-4EDC-89E6-ADAA99AC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EB85-BE9F-49BB-B5A3-61D822FA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726C-ADCC-4A6E-9333-016A4A22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C3A9-9C6C-4D30-9D2B-D10012D6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0902-4730-4C78-93F7-7E46B52B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EF88-14D9-416F-AA0D-A8C9697D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FCB6-6B65-4C60-91CA-EFEA2812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DFD7-C700-424A-83E0-3F200D7A214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DFE1-2AC5-41AB-B506-6480640FABF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5:16Z</dcterms:modified>
  <cp:revision>23</cp:revision>
  <dc:subject/>
  <dc:title>Slide 1</dc:title>
</cp:coreProperties>
</file>