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62D4-E952-4057-874D-A0961C503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DA4F-DC9C-4016-B3A2-5E82A8BC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A9AB-375B-4442-BDEC-3C0EBFB3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C41A-2260-49AB-BE80-A2C5107F4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1D4F-5A43-4E71-BBB4-4CA7B0F2D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B7A1-6C87-4C40-8B5D-9E6E6BD7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3B15-1DC7-41E7-86F6-46C9F7C3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9D48-428E-4197-94AC-969FF7A5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F936-75BE-4F69-99E0-91AD9D8A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B3E6-13BF-4DAA-BD1D-B0BE7A7A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7BD9-00C9-42FD-82FB-707A8D34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AFB5-3EC3-477F-B902-D5D68637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D1F2-23E5-4B85-B7F3-4D601939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653D-66C3-4631-AC18-CA87E345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C19C-001E-4761-AAEF-C8E8FDAD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3B4E-95B9-4A32-A2A6-7D6B32D93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2C57-26FB-4F8C-ACEC-2091C796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E6BD-B884-4BBC-A44C-F1502C69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FA60-2637-47EC-A8CD-B3A79BB7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914E-E76B-4B46-9058-71533206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786C-DA60-4329-84EE-135D17B0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DCD9-2712-4DC0-B9C5-B5240655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6B5C-615F-4204-B377-3990E30D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2626-2CBE-4193-86C2-42FD4E5B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B62F-837B-427D-A87D-8B5A5F670ED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8421-6B30-450C-98A6-A78BCE6EFB6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4:40Z</dcterms:modified>
  <cp:revision>23</cp:revision>
  <dc:subject/>
  <dc:title>Slide 1</dc:title>
</cp:coreProperties>
</file>