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9B90B-BBFA-4327-BFD2-FF0F8B7EF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50560" y="3964320"/>
            <a:ext cx="843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4B8F7-C67F-4CB5-A2D9-F460A6562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5056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344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415FC-9F71-486F-9B98-579C9867D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02840" y="160020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55480" y="160020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50560" y="396432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02840" y="396432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55480" y="396432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8A336-7647-47A5-8714-2479F7B3F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0BDCA-725F-47BA-924D-476C90B02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77663-F5CA-4374-9DFF-91622D22B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66733-6862-431A-AF3B-965959337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CF355-0D36-47CB-A96A-EC129F44C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0722B-08E6-43D4-8D07-CCA38EB98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59920"/>
            <a:ext cx="8447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81ED0-09CD-4299-A89C-76C2C99E3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5056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F77EA-AB9E-49A7-9F23-688DFEC1A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FCC94-BD14-43AC-8471-5D9EAB27E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344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10FBF-8218-4B5E-95E4-F811B3252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50560" y="3964320"/>
            <a:ext cx="843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05BA7-F0E1-4BA5-923E-0D1799395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50560" y="3964320"/>
            <a:ext cx="843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92BA1-A7E1-47EB-8A9A-8DB69EEBE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5056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344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CD083-E9AE-4411-9E9C-461E9968B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02840" y="160020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55480" y="160020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50560" y="396432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02840" y="396432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55480" y="396432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88283-8CA5-4ACD-9947-3C9F71E1D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F8C0A-F58C-4633-A958-0B9E00B83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915B4-D1A3-467E-A9B2-AD76DB558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CEBAD-1C76-482E-8E6C-75FDCDB02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59920"/>
            <a:ext cx="8447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D2DA5-A87D-4646-82AC-0766E0285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5056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ED635-5014-4029-B86C-399F23226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344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93DBA-60E1-4726-9892-A0F9C0409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50560" y="3964320"/>
            <a:ext cx="843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DC94F-74BA-4E25-B94A-01B80AC5C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17F1E-00DB-46C2-AF36-0FA108E9E3EE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1557000"/>
            <a:ext cx="547200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25B15-91B3-4E04-ACD5-B09BDE0125E8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32000" y="1557000"/>
            <a:ext cx="547200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66920" y="3715920"/>
            <a:ext cx="5510160" cy="9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7T13:14:40Z</dcterms:modified>
  <cp:revision>23</cp:revision>
  <dc:subject/>
  <dc:title>Slide 1</dc:title>
</cp:coreProperties>
</file>