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A514-25CD-4701-B99C-3DC5394B0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9BAD-1A69-4553-9AF3-CEA434D6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235F-EC2D-4077-9AE2-A4C6BA3C5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1132-36D4-4170-9B73-4849367E4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6CC2-691F-438D-9BF6-31641804E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B102-1084-485D-BF6F-745D7853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A16A-6404-41F0-BD84-FBF1BA88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44D1-B529-47C5-9E5F-ED66B868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A251-1F03-4801-97BD-AB02629F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C4A3-3E65-4040-8E12-9A5A428C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4CFC-C5DA-4F4C-9CCA-3F0C885E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3ABB-61B5-4719-A5C0-DCDA167F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3143-813E-42CE-90F6-618A5C39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F50B-0046-4064-B317-C57CC589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3331-F6E9-47E0-BF01-3A4F50DE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010E-0DCF-4308-A756-454E98726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6366-5B72-48FB-A59A-F11C15550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11AE-F676-481F-9587-DE37CF72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8994-0AA7-4AEA-BE0A-12399AA4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8092-8BC4-48C1-A445-3929EC6C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5596-4591-4BB7-B944-C60722E8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FA1D-3656-4A9D-8BF1-D52ED1F2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6202-1D2D-4F14-80B9-793FEBBD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0439-4EB3-4B9E-8822-D22A6992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AB6C-D4F2-4B9D-AB5A-3242C97FB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3323-FDD7-4B0B-9E45-D1701B765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5:17Z</dcterms:modified>
  <cp:revision>19</cp:revision>
  <dc:subject/>
  <dc:title>Slide 1</dc:title>
</cp:coreProperties>
</file>