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32B7-9D7C-4026-AE2C-E9C991E31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076F-F294-4E84-856F-00CF22C8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0F54-F165-4728-83C5-88D67F499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B8C1-0672-4E99-B8FB-753CF2144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215D-9C8B-43EB-BD9A-FE63FC4B2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5F92-79D2-44A7-990C-CF35601F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6286-F4C9-44FB-ADE6-6206CACA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4A36-6680-41D6-A1C3-0B3F6AEE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660B-A9C1-447B-9112-8EE006FF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084B-CACA-4F26-A5EA-32DCAD63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3C06-55F0-4266-B125-4A2C86BA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9986-9978-47A3-B7BC-D3095CDC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C9FF-FA1E-4B2F-B3C5-410E64B4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0ED0-5ADD-4CC8-A750-4E731242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5D3C-B9B4-43C1-92D7-E5D26DDC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CF56-F144-4C5A-8EE9-0DE461456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5CAB-F297-45F5-9C6B-0BEC711C6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3401-E1B7-491D-AB0F-06523506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022D-0A02-4280-A739-2A980723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31AA-9D8A-4C69-8074-80C56D2B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3EDA-F33D-4FAD-85D2-6145EF68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7BC7-9BFE-4430-B993-925FC7DA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4D76-15AD-41D6-A251-F4C474C6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578F-96DA-40BF-B81F-580835EF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7245-F1E7-492A-BBD2-E7DDD1295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94D9-E7A5-4AFB-B35F-DEBFC1449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5:17Z</dcterms:modified>
  <cp:revision>19</cp:revision>
  <dc:subject/>
  <dc:title>Slide 1</dc:title>
</cp:coreProperties>
</file>