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37F5-E1D4-4AE2-BD89-95D681CFD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B9DF-CD6B-45EB-BCED-46FBB1E4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A5AB-E88E-4B27-9E5D-59BB7FD82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CD0D-3796-4D93-B6CE-1450200EF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0B4B-4EFC-4662-96E0-7116887E2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7F1E-FB05-4190-80B3-6D5BF479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0B4C-753F-43BA-8EBD-639614D2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1BBC-1F73-4C6A-A753-CBACE38E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FF2B-2D21-462B-ABF2-C283CAEF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19B2-3A2B-46E8-BA78-D7152544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6228-B66F-480B-800E-DCEB8DBE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9A85-4CBA-49DD-B29A-52E3D434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A0EA-27DC-40F4-BE99-14B82BA8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4F18-BB76-4057-A700-7EE37F83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AFB6-056C-4EDA-8F1D-CE59FBDD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EABE-2492-49CB-81BE-78617E4F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5662-B22C-435A-AF1C-7657054FF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D2A5-A8C6-4502-9AD2-31931ABC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2321-887A-429D-9581-A2B1A2EF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C295-F3AC-473A-8E24-A313DC96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2B63-D761-4CB1-B47D-218ADCEB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C91E-FDED-4592-94C5-D0C63D8A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51D4-76DF-4631-BF14-3769BEF5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2DB4-6C2C-4CE1-8665-D944D857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1BDC-0392-49E6-BB39-5027705C0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6B34-D41E-44D1-865C-6EC7B8AE5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5:17Z</dcterms:modified>
  <cp:revision>19</cp:revision>
  <dc:subject/>
  <dc:title>Slide 1</dc:title>
</cp:coreProperties>
</file>