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A7A31-B6ED-4713-A51E-2CBBFE8AA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71280" y="396432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AF3EE-1FCA-4320-862D-3A5E87EE9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2480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39CBC-B6B7-43C7-A22C-8DA680A1D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984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8840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7128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984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8840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262D8-FFB8-475B-9F7F-F60AC1AF9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C4624-AB86-490D-9949-81041F267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2E795-2F33-4FAE-B208-D891FBE69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6A7D9-243C-46BF-BFBF-378C4D5EB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73A92-8C4B-4050-8F2E-03B0B40A7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25EBB-A3E3-4A09-8074-9E30A9E32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971640" y="-243360"/>
            <a:ext cx="7726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E41FF-51F8-4661-85D3-CF787117D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14910-11E3-4CCD-9BC5-1E4C26E6B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15636-B94E-4D5D-BFC8-7EAA71059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2480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1C012-2D7C-4C93-A2C0-46242FEAE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1EE1C-C48B-40A3-9F7A-48ACC36B3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971280" y="396432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A256A-8080-4189-BCC8-B7BE440A5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2480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FD0CE-7DDA-4B8A-99EB-ADF429A03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7984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8840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97128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7984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8840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AE5D8-8A8E-4EFC-9D77-99205F50F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7F5FF-3765-4FA9-BAD8-9BF0E9A91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70EF4-1ECF-40E5-88E0-6D2920B5C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DAF88-31F0-4BD1-83DF-5F73DA1D2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71640" y="-243360"/>
            <a:ext cx="7726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6075A-F986-46F7-945D-4B512BC40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4946A-24CE-4510-9800-28CC188E4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2480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72BC0-14E0-460E-A7BD-3C0E1E880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A0C12-6B0D-4332-8472-0D69A1067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2318B-237E-4889-AA27-B247E8511B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195280" y="1557000"/>
            <a:ext cx="662436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F9347-BA69-4615-A0DE-CF7FF253BB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195280" y="1557000"/>
            <a:ext cx="662436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195280" y="3715920"/>
            <a:ext cx="6624360" cy="9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4T17:38:54Z</dcterms:modified>
  <cp:revision>19</cp:revision>
  <dc:subject/>
  <dc:title>Slide 1</dc:title>
</cp:coreProperties>
</file>