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69FB-4704-48C9-BFDE-004C8E2F1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AE43-9EEB-4509-9243-4FEF0A60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F23C-8B61-4A68-A191-F9D57B460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E6EF-FF8B-4677-8F92-0E5DBEDE7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B45E-EADB-406B-B973-E95BC3E41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A227-15C0-4FD5-8420-1E9D569B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03BE-70B3-49E9-A61B-AB4C30E7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0DF0-A0FD-4FCC-B266-1F6D6D47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1038-51D1-402C-B245-22A4B201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B45C-B8A8-4B1C-A917-24C323BF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E8AB-8128-4DC8-8B27-AD3605F5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02BC-2A15-4158-B609-C512F4B7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2B00-3B93-42DA-9FA2-B6AF8489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DD07-1F00-491D-9AA9-9D08B567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93527-3376-4A96-9AF5-9294174A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E92C8-64AE-4220-A243-2FD25AA8E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9A5E-21E2-409E-B4C1-9EA020276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3151-6145-4FCB-9F46-296B5A4B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CDE8-8242-480E-9700-89D7E23C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B3D0-2B2F-45AB-9B7A-88722725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952F-386D-4958-897D-F937F53E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FADF-FC9D-43D5-8E18-9FD8CAA6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53B7-007C-44CF-9D40-3CB3F634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7F38-B14D-404D-8927-21F729B7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D05C-27FC-4885-BF5D-99CF7D48A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DB6D-97EA-42D1-983D-D488CEF70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95280" y="1557000"/>
            <a:ext cx="66243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95280" y="3715920"/>
            <a:ext cx="66243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8:54Z</dcterms:modified>
  <cp:revision>19</cp:revision>
  <dc:subject/>
  <dc:title>Slide 1</dc:title>
</cp:coreProperties>
</file>