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F6B6-DADB-4DBB-BB8B-0F62F3B97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11B2-0721-456B-958C-B6A493EFB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01A3-B756-4EE7-AF16-4BC49FBBA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984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840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7128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984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840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E38B-8361-4FC9-8B64-6B9F21E47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88996-2102-4037-96C9-7933889C4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15A2C-5CE1-4DE5-9AF4-73E9732C7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428FE-FCFF-4477-BDD7-515CE1874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B747E-826B-4629-A26A-A2CB3B642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D0D36-0A60-4C20-92A3-DAEB55E55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71640" y="-24336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E14FB-EB72-4220-A145-92EE6E9F8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D5CF0-9673-422C-900C-4582BB3A4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E2FC-905C-4782-A17D-AAE38D5D6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D8F9F-BA74-4043-AC7A-2D2B167BC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B17FF-65D6-4541-BCC5-B34B33350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ECDC7-61F4-422C-9077-691D42269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68499-7951-41E4-AA08-56A5E966E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7984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8840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7128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7984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8840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EF26C-FBDB-42FD-A4CA-56DA941AC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ADB7-775E-4FAD-ADEC-7F77E8D97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5F97-0636-4B31-976C-EDCF5804C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0F3F-4A16-4903-B166-943443095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71640" y="-24336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1077-8834-488F-9A17-F1446C2FA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F84E-E0BE-4432-B343-342540EF4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4454-7970-482A-9B60-F75378A9D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28C7-327B-4822-8EE2-52AAC99E9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4847D-68DF-4F31-BAF3-6226F30E3C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352728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C2F55-DFE7-4179-8D5C-501588FB8E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352728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560" y="3715920"/>
            <a:ext cx="320508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32:46Z</dcterms:modified>
  <cp:revision>18</cp:revision>
  <dc:subject/>
  <dc:title>Slide 1</dc:title>
</cp:coreProperties>
</file>