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15B2-C8F6-49E4-9B29-E30419C2B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B102-1372-4B6C-AD4D-888E45A5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CC00-7495-48BF-AFAD-AB46D0FBB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A51E-118B-4802-9F2B-A1172250C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C89F-095B-4CF4-8A47-3BEDAB55F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6F75-8A37-4B69-A065-DD117C96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5F5D-7613-4FD4-8C56-3497F5F9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8A3B2-9110-4E55-80D0-686C4053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21DB-40F4-463C-9E82-2367DF7F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685B-B543-4D6A-9BED-FEF04DDD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5152-4379-426D-B820-2BA3B337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2A21-1D55-48E1-8008-E6603479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BBF6-AF7B-495D-9434-DD142AC4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608E5-0754-463D-9BB7-F97A99B5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4E29-B37F-4820-A740-8A6B6FEA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E758B-E68B-46B3-8218-DD3F877F3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1D523-422A-4BA5-BA3F-E19D50CB8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7429-B24A-4B51-8144-80EF1B4C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6239-51D4-4D61-B57F-0F0BF1D0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E312-1D0F-4BBA-A24A-A9FDE4DF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2613-4BCF-41C8-A749-E3D3D75C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6CCD-A4A8-4C5E-AF03-56B793E8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4570-FFA7-4788-8C75-C025961F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C12B-52DC-4041-8EDF-94E7D481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F351-D14F-47A6-8DA1-C129813D4D7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E2CC-B25C-4028-A915-C3CD04F37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03280" y="3595680"/>
            <a:ext cx="48243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0:50Z</dcterms:modified>
  <cp:revision>20</cp:revision>
  <dc:subject/>
  <dc:title>Slide 1</dc:title>
</cp:coreProperties>
</file>