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CD9E-2FFB-4E9B-AC02-617BB470C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AB9E-A7B8-4650-9593-25F120D1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240C-A5BB-498D-B58B-7BEDFCED3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5923-6912-4CB8-A5E0-9897DAFE0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CB50-E49E-4127-84FB-A2B73C546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0A81-FF6D-4EF8-9E38-C9C1A4FB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5296-95CE-433C-A0CC-E845DC7B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932C-B951-458C-9249-5480288F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E2F5-39DA-4B5F-BE75-AA95A8B9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03E5-6952-4642-BB2D-05B90FDB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18C2-7EE7-421B-AD50-2A4BB203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FE22-1F10-4C61-8858-D2DC8970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32AD-4C43-4708-B9DD-50F9B632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5591-177B-4E96-968D-AA579345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CFF5-3A0A-4B4D-B7B5-B2684E5E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1C9C-6A72-4779-B94E-BAD573B18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DD68-968F-481D-8739-DE73EC4D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71D1-C732-44C6-9366-0045EBB5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701F-DE9A-4995-A4E4-8BBBF237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221E-C134-4A5E-ADDA-FD24948B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86FA-2CE3-4BB6-9DA1-7DE9AB88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CB85-B9CB-46C8-BD28-B7C1C665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78AD-D3E4-4D2B-8C29-27F47BF8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8B92-66F1-4DBD-9914-E52DED1D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C91A-BCBC-43F3-8A48-6F2ED1EBC48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3B7C-30FA-4414-93F6-BC707D890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03280" y="3595680"/>
            <a:ext cx="48243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0:50Z</dcterms:modified>
  <cp:revision>20</cp:revision>
  <dc:subject/>
  <dc:title>Slide 1</dc:title>
</cp:coreProperties>
</file>