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7A7F6-5B6E-486B-B963-8FE878E05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83A4-E095-49E4-81D9-19E076EEB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C85B-AEE3-487C-8BF1-AC6AF1721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93EA-18DE-4B08-BA60-86540ACEC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7C1C-ADDA-4356-ACC9-685B33BB3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50C4A-9809-418A-BB7F-AF2C3C77D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EEB362-5167-402F-9E04-3A3D76747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04244-5649-45D9-B2B1-E96C6347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86E1F-F97F-49D0-AF83-DCA402C31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448CD-7158-458B-8A3F-BFE16437F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C63F8-7D7B-47EE-97C7-D8BA84427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9355-E269-4B94-A4A3-3F8CFFCE2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274A5-FB8E-4AE6-95B6-7E169FDA8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33719-79A8-4CA9-8768-F022287A8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C6C2D-B711-49C5-B3C1-923654345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4CC8A-ABC4-4504-AC0E-06DA7E6B5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D45B1-3C79-49DC-8059-7496F5B4C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C429-23C2-4245-BD5B-0D78CE54C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E5D1D-255F-4559-AA6E-A82D7FE36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503D-A278-41DE-BA9D-3792F9838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D32C2-51DC-41D3-9670-0185AB1EF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7BCF3-B688-4164-ADAE-A414CD21A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AE21-E0F5-4107-8A9C-ACB150007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3838-4BE8-4F76-BC86-BEE96B15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20B93-E769-48F2-86C5-B5146D3D7951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12DB4-7B6D-4F9D-AD6D-2D378CF22E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03640" y="1557000"/>
            <a:ext cx="4821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03280" y="3595680"/>
            <a:ext cx="482436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30:50Z</dcterms:modified>
  <cp:revision>20</cp:revision>
  <dc:subject/>
  <dc:title>Slide 1</dc:title>
</cp:coreProperties>
</file>