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37D4-B3D2-49B9-905B-3D4B0ED47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55A6-012C-4F8F-9A4C-D5C7FB75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6CDA-480F-409C-998B-9252B994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19C6-7EA2-4B63-8465-9A670B68F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D473-3E50-4A7B-9762-53F35164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1443-69A0-4259-9D36-038588F4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CA98-C050-49FA-8412-B0ED0F54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E478-0634-415B-8720-A756653E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175C-CFEE-4E82-9218-1A6FE3D7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2D35-1AE7-46D7-BE71-F8295A09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62D4-E5E1-466F-8A13-B8B80CA3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BA66-8D06-44AB-A61C-B669A835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156C-255E-4F2D-B765-7942B4F9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7783-112D-4DCD-9688-5A48F590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BACF-FE90-4B85-944B-C021477A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FBBC-66F6-4EFD-BB89-92609CAC9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E6DB-E888-45C9-B249-B442D5177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E4E5-33B4-4E81-84D5-DE7FD879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A246-8928-4761-B350-7136D010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14AA-545F-4E77-B2DA-2779CE4D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3506-F19B-496C-B0D0-9B25600A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C46C-8851-49C7-9B2D-BDC83E0E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E0A7-B90D-430F-9630-B5E8FF97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E8B0-C83D-4015-8258-EF3F22F5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72AE-722F-4BF4-B6B0-F6BC7406E9D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590C-4D77-49F5-BD4C-982A21ED5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03280" y="3595680"/>
            <a:ext cx="48243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0:50Z</dcterms:modified>
  <cp:revision>20</cp:revision>
  <dc:subject/>
  <dc:title>Slide 1</dc:title>
</cp:coreProperties>
</file>