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AE31-DC40-49C4-840A-B0E6BA8C9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BC87C-68A3-4614-B700-4671D34A3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1B04-CECA-4A7E-8BB9-1F80E1B78C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94C3-5771-4AA9-9022-4197458940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60B63-59A5-4CE4-8BC4-0A14BADE8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978D2-8EBE-4E53-8E1D-05E4B243A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0EE9A-2F62-415F-AE29-97290C31A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93B4D-F6CE-4E75-A1E8-AB62AE958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EBBBF-3567-4591-894C-A5801FFD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21CEE-EB47-4A1B-9C74-C9FFD20FF2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4D865-2A2E-478D-9A9A-9970FEE6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C70F2-A88C-4E53-A52C-2137C0E16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9048C-5234-42E7-AA50-B56C0F33D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841E4-852E-4178-95F8-3A1C41C4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AF4C4-F648-43AB-A663-CCB23D359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B3F2F7-509A-473D-8E15-528CC7DE2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0CD5A-2868-4466-9297-47FB6333CA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F6FB-891E-48E4-B70C-20EBEF089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4471-437C-49D1-9CCC-8030F7AD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CEA3-1591-4244-92CD-DA89EA71A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243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33562-527E-4756-8A2B-C691B3CF3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E379-EC3F-4BB4-AAC8-3AE943D2C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A611A-FD2B-4C15-AA75-6DA0DEA1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81E-7B48-4CB8-8791-D22A2F8B4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00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E2CE6-727D-49EC-B01A-12D50EAFAD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02780-D6DE-4E0D-AF4B-E2A9C7BD15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331640" y="1557000"/>
            <a:ext cx="669276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66560" y="3285720"/>
            <a:ext cx="6661080" cy="9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9:04Z</dcterms:modified>
  <cp:revision>18</cp:revision>
  <dc:subject/>
  <dc:title>Slide 1</dc:title>
</cp:coreProperties>
</file>