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C1BF2-3841-4C5F-80C0-D4A34D7E6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AEFC7-11A2-414C-9CC5-995480DA9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9A8D4-7F6B-4954-80BC-DD42DECE1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10500-8815-469A-BA10-76D6D5E96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015C1-C437-4A93-851C-142BB6EF2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C0E57-ED0E-4484-B0D5-1A85DA6CD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4E12B-51CA-4D0C-96E6-4D8E8316E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BF2DF-D159-403E-B026-C6429B6F6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92416-F2E6-41B3-86AD-1DC88999A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360" y="-243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36007-6EF7-4F7F-AF29-5E36D1D03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4CD73-CA57-4F09-B288-2C494207C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E74E3-D6D7-49DA-9A50-56AF4A5FC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A3053-6F97-4CE8-A11A-D89A31F73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7E701-9AA9-4F5F-95E5-1D86E351E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C9D10-5B42-4D8F-BA50-797111F1D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2C1BC-ABAE-4AA9-92AD-F7ABFB9DC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2E198-3EFC-410A-B011-8AF8A4DC3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6DD67-9BCE-47ED-A457-C43F13FE3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83789-4899-45C3-9B09-30F2B4764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21DC9-3A8A-471A-A7BD-970ECF0A0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243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BF472-9581-4594-9221-40DB8C181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2712B-1E48-45CF-8464-E59F0F872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FCCFD-7E35-48DC-B504-A50F1B18E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77388-D75D-4E92-AAF3-1938AF3D9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CD1F0-DB00-4436-9D38-DCCE8F91D5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1640" y="1557000"/>
            <a:ext cx="669276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B281F-0CC2-46FB-A417-4FF1F59950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31640" y="1557000"/>
            <a:ext cx="669276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66560" y="3285720"/>
            <a:ext cx="6661080" cy="9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4T17:29:04Z</dcterms:modified>
  <cp:revision>18</cp:revision>
  <dc:subject/>
  <dc:title>Slide 1</dc:title>
</cp:coreProperties>
</file>