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55EE-66D5-4AEA-9FC7-747CFF0FD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93F9-5E15-4257-A08A-FBB345C6E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BA6F-CA27-44ED-8B67-B76C8EE87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62F1-E9DA-4780-961F-4FA6CDBDF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FB81A-656D-4E49-9980-066D39742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86AC8-71F0-4E40-9484-EB199A343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56ACB-E6B4-4AC1-837F-EF02CC0AE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39ACB-FB4A-4A15-A904-BB8F455AB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C2448-1897-4916-BF61-F259C2BC7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7E283-F588-4874-AC22-18461A450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B3E2D-BCFB-473F-B5E5-088CD8B3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5290-CC1D-443A-8305-040D0B101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E3850-D971-4127-BEC9-32862CC0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DB8AB-633C-428C-9C0F-93BABBDE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ADB7B-E146-49E3-A4EA-F887627F2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E83F0-DC61-4D82-8DEE-C4BFE5B16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9007B-1A01-4CDB-BB1B-8744CD337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E198-3E1E-44EF-979F-434DEA6C8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49AE-99D7-4FE7-9322-4FDCC804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3C6B-F0A7-48BE-8828-16C0FFF3A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B9B2-DF1C-4FCC-94C6-021F2838C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6A5C-E63E-4AFE-979D-BD966131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39CE-CC9B-4F4C-B9B4-7A97CFA6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D7FC-F3E7-444D-B29C-0101263E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E1F95-5F35-4623-B2BE-0218465AD7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20D23-AE8D-4A31-98C1-73719A1B6D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29:04Z</dcterms:modified>
  <cp:revision>18</cp:revision>
  <dc:subject/>
  <dc:title>Slide 1</dc:title>
</cp:coreProperties>
</file>