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CCD7-3EE1-41AE-96B5-83BAC3837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5FC3-9B5C-424E-BEED-4FA43EB7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F53D-AB6D-4075-85FC-E8F8E3E7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4372-91D1-4551-A496-7B8320151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5DFD-CA31-4BE7-B8EB-BC0826F3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99F6-1D56-4F9F-873A-6CE26A5A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A2A6-F396-4657-BCCE-8EFF84A3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A2ED-4651-40EB-AD25-39F40D70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A386-9D25-4332-A86D-C889FB08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395C-6126-47EB-803E-8E9780A9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51DC-0B3B-403C-B238-D23A11FE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8370-83CB-496F-BF01-722F6F5F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AE13-E6F0-4264-87B4-53B698A4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175A-C6BA-45C7-89A5-9A493CA9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8BA7-2D32-4ABC-8F15-E8C0EFAB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8EA7-BD25-4B3A-BDFF-48E037DA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33F8-1737-4D1D-8D56-B053222EC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90EE-3831-4203-8D71-9158F47A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49E2-4CEA-4020-9927-F14AE620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D864-4014-4E84-90F1-D1882658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D1C7-F316-40B7-AFB7-3C3AE6F9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9625-68F8-412B-AC6E-FE5E4020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EE6C-B1EA-4BC5-9CD2-43930DCF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F88E-A262-47C8-86B9-ED8D12D4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AB83-2DA5-4250-9E18-370B00FAC09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933B-9BDE-4A2E-B80E-F958749E0D9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3:44Z</dcterms:modified>
  <cp:revision>18</cp:revision>
  <dc:subject/>
  <dc:title>Slide 1</dc:title>
</cp:coreProperties>
</file>