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3E07-806A-4EDB-B51E-81C1420CB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7116-0880-48A3-B902-622F959FC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9226-E7B4-48B3-B39D-50A828AC1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CBA2-0020-42FF-9344-466E2A06A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69E13-5288-4F2E-B643-EA5454FE1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ED053-5549-48C2-9B3A-DD56BB8B3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238F7-1AE6-4518-9952-B7C9F2E68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130D6-18B4-437E-827E-82B92DDD2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A1AD9-772B-4704-84F4-E1F323D80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66B97-1517-4B38-8089-530AE44B2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E0A2F-487C-4B83-A977-4C0000367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7455-95FD-41C4-B0FF-92C477E63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6896F-BF1E-4D84-945B-A7803B2A2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643CC-BAF8-4B18-9AD3-0483A7455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0572D-821E-4EA7-8111-DA23F5518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D4F7D-282F-45C9-A849-B4786491F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30FF5-8BAE-43B5-A67D-8D40ACC43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E66B-1C9F-44B6-A3F0-09AEA2564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4575-0DBF-4D36-825E-B09F46F6B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B395-4AEC-4474-BB62-4FCA068E2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9CB0-EE02-447E-9512-E8D1610A7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9F86-8A7B-4A5F-B384-4F8E370DA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D08B-A0B7-4F32-A51E-93D5CAB2E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3101-281C-4FBE-9E90-54A42E266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CC77F-4154-4D3A-AEF0-1BC3F2497BE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1640" y="1557000"/>
            <a:ext cx="66927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EA180-7200-45C4-A7E1-EE4D4BEB339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1640" y="1557000"/>
            <a:ext cx="66927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560" y="3285720"/>
            <a:ext cx="666108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7T13:13:44Z</dcterms:modified>
  <cp:revision>18</cp:revision>
  <dc:subject/>
  <dc:title>Slide 1</dc:title>
</cp:coreProperties>
</file>