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90A-BE0A-4C71-AF19-41A2B8C7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C41-AC79-4927-94C7-BE318C61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78F-03A0-412F-8D68-3F6F491E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9F2-5F1D-4E3C-BD2F-6B50BEB5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3805-93A7-4750-8833-1F4CFCF7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E574-7B61-4A4C-AE9F-35A78C3B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53D2-6B9D-410C-A21F-AFACD4FB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9712-6E26-4EA0-B3A2-CC29201C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A731-7ABD-4A1E-85E7-FE0C01DA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31B4-7AF9-46A3-B00C-CDB3A47F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AAAE-3D9C-4117-B76C-ACFC1604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9AB-59E6-4419-AF25-C520C4D4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2104-FE8B-4C00-974A-14D5342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15D1-B0B0-4E1E-B87F-D9DBE233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B5B0-4458-40DD-A644-3FA8F383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B9EE-F0A2-4AAE-982C-AD5EBD17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9723-3CEA-4ACD-A7E4-8E129076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E75-255B-4578-9CD2-F5313763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1AF-FD27-4535-8EF5-E5C81879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94F-3DD7-4483-A1F4-A5EEA8AF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E09-7569-4181-9D57-1DB48AAA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476-197B-427D-B648-356EF834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897-2E9C-468B-AD5F-F4CD5C86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58E-DC8B-4928-B4C4-1EF152DE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455F-C196-4D4B-97A9-4E9C41E701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35FD-86E5-4AA4-9E7E-B4482A0585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3:44Z</dcterms:modified>
  <cp:revision>18</cp:revision>
  <dc:subject/>
  <dc:title>Slide 1</dc:title>
</cp:coreProperties>
</file>