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F7C1-C0E1-4F34-A6E5-030CCB65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9D57-8DAA-472D-8079-D7CF19CA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B8B1-25E0-471B-BF37-A0AE46F2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5C74-5800-4011-8306-32AAE209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D597-0833-41F1-9808-94DDEB0BD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A513-FE99-4837-841B-C43672F0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E74E-DC77-439B-B85D-75B36FC3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8BD7-CBA1-4496-9ADB-4E74DC4C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3EBE-E5A8-4375-998E-C1795DEB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BDBD-7526-4FB4-8E33-02A4D8C1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9482-8253-4F5F-8928-13C74BC1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7E5B-9E27-42A8-B971-40415E94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2A9B-0287-48F0-BCE5-BAC931A2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B58E-0079-49F8-94BC-5A07B1EC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E3AF-3D86-42E5-AE67-97F595DF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4EB4-BDD3-49C6-9DCD-D82B8ED4D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6E01-532F-4086-AAC3-1067EC42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B9E3-6709-4049-9C8C-15B66583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F2CB-1530-41F3-81A4-45E1C1FD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581F-B4EF-4CDC-BD55-030CEBFD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468A-97DE-44BC-990E-40F4A574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946D-F071-46C2-B9E1-3FBD0BF9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3E8A-CCA8-4881-87F4-3D07B344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13AB-9C0B-4F7E-ABC0-CA6634E2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D42D-D117-472B-8832-17886829844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D975-91F9-46CC-8AB1-8D0741783E9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3:44Z</dcterms:modified>
  <cp:revision>18</cp:revision>
  <dc:subject/>
  <dc:title>Slide 1</dc:title>
</cp:coreProperties>
</file>