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DBA0-C193-4575-BFF3-F8D3197B6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61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07640" y="3964320"/>
            <a:ext cx="61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F9B5-6C80-4CB9-8558-4945502B9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0764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72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F9E7-7198-4469-86A3-FD4EE207A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80520" y="160020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3400" y="160020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07640" y="396432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80520" y="396432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3400" y="396432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0717-EEE6-4CF7-9EDF-C1BD1172D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5208-CEFF-4A36-B341-0BD001C03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2F07-19C3-4917-99A0-E2ECA3862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8165-F8B2-4A46-AFD6-C0ED8E105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8E7F-1475-4D26-BE85-54A0F4EA0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916000" y="274320"/>
            <a:ext cx="561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A6EC-38BB-40F5-8483-E361FEF9B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0764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4309-2A83-492E-B27C-EBAD84A0B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72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26FE-BD1D-4473-95E2-80B11399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7640" y="3964320"/>
            <a:ext cx="61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C37C-076D-4DC4-9374-4200F42E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f2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D30AE-D5F9-411C-9AFF-C73E3B802C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00:46:13Z</dcterms:created>
  <dc:creator>IMS</dc:creator>
  <dc:description/>
  <dc:language>en-US</dc:language>
  <cp:lastModifiedBy>IMS</cp:lastModifiedBy>
  <dcterms:modified xsi:type="dcterms:W3CDTF">2007-10-23T00:48:52Z</dcterms:modified>
  <cp:revision>1</cp:revision>
  <dc:subject/>
  <dc:title>Slide 1</dc:title>
</cp:coreProperties>
</file>