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9267-D1DF-4629-9D04-1C1462B65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065A-B8B5-43EE-B76C-EF388440E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4F56-BC04-48D1-9DCE-C74308854B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8762C-E749-4C2E-AE64-5E921FE978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8EAFF-FF76-4896-A806-DA7F36C44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8D3840-7587-41AA-BB73-2ACD9E9AF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14783-06DA-4206-96B9-AAC3F217E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5DB88-3331-40EA-A907-AFE1631559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B096C-90E3-4F6E-9DE5-6A81F31CF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8F227-4017-438E-8E11-87D4FF94C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A3D90-9D82-4D14-865C-F892ED982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1EEC-BFEA-4A0C-A576-81753720C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B70C03-5994-4E83-9974-9A79741F0A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1F650-0CF9-44F3-A307-CE5BFFB26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20AA-359A-46F0-A67A-E974FC049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E6EB9-E93C-4A56-8E4E-A4B54E32B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E3EF1-6F84-423E-AF75-051EF3213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3559-E5CC-41D9-AA80-FBBC4EC41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D386-DB25-4563-BBF2-25B14E87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45AC-8AA1-40B2-BBA1-DB30238DB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1663-46AA-4506-9EE8-152282DC5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F4F1A-4984-4135-B689-C1F506C8E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C0B8-C160-4282-BE3B-B5030A36A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1E9A-7845-4F1F-988C-B4AFB5948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F3A1E-E698-4F40-AA58-CF77E1A307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44D7C-454F-418D-BC04-8296D919AE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7T13:12:03Z</dcterms:modified>
  <cp:revision>17</cp:revision>
  <dc:subject/>
  <dc:title>Slide 1</dc:title>
</cp:coreProperties>
</file>