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4E01-F1C2-43D5-A9CD-2B932CCED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69E8-0301-4F0A-A874-0187BFB2E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9D2D-6873-4668-9B61-A56CD5AB8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42C6-C6BB-42D8-A5E3-AFCC3C999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78157-2AF8-49D2-8031-4AE69318B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9F458-73D1-427A-A6FF-0234EBA5C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DDBD9-2681-49E9-AA2F-A169A1491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079B3-6B10-4D54-A339-348100489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77148-1C04-47F6-90E6-AB2312A52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F6278-91B8-49D8-B335-076F174AC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F7032-E52E-423A-B08B-7ACFC3A53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F41C-034D-4FAE-908B-0C1D3ED91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6F04C-4235-46EF-9CFA-8EDA830DB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C3C19-FAD7-4B3A-AB74-206FA655A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7F5AF-ACC4-4599-9D86-CF5CFFFFE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78E17-CD0C-48A7-BB6C-4FE181EC7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09C05-11BF-4E84-99D1-BBC1D4C0A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0D84-BD24-44E5-BE7C-6FC5911B4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CF43-4993-4ED2-821A-15712099A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4BDF-1806-4769-812F-0DFA9CAA8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51A7-EC4A-4D65-A27A-AECE5C683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34F0-739D-476D-9022-FD2491BD0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E22F-3CD6-401B-9D1A-34CC85791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46B9-5EC1-4BEE-B07B-1A4A0474F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4276B-E4BD-406A-A379-CF246929C9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0FD3A-EACA-4B00-B782-512FB4F3DF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285720"/>
            <a:ext cx="6661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2:03Z</dcterms:modified>
  <cp:revision>17</cp:revision>
  <dc:subject/>
  <dc:title>Slide 1</dc:title>
</cp:coreProperties>
</file>