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FA3CA-5BB9-44C3-B7AD-D690E862C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9851F-C3A3-4282-9498-13E57347E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51487-3A2E-4E1B-A827-F4B990E3A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8FA72-6C21-423F-8F4C-69BB84A79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F3678-48FB-40BB-879C-8BB204FA1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BEE48-5F72-4B1D-8E0B-A21EC75A2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F05A12-24CE-486B-8D32-1C4583D01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0C6E8-5F37-47D2-BD5F-35F8DED9F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6A90C-FB96-4AD0-B757-E30F265E5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F6945-2CCC-4133-AF31-FE96FC249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C51EA-6237-4B7A-97A6-F353A3DE2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DA8A6-3878-4DDA-AB63-2E57DF5D3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4429B-0931-4FB7-930A-A103900BD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0F3F3-FD6A-4F3A-B45C-D7DCCCF5B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9FD4E-FDDB-438B-9B57-E60F82286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A13DC-1B06-41D0-B9BE-AA8E6EF5B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2D392-006A-4A8C-87AA-18B8EF6053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3CA9B-DA3D-42F7-8C94-00BF0FF93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BE21E-FD4E-41B9-B4D5-B9D40EF68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C63EE-3914-4E02-B0F8-DDCF48F59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E2390-37F4-4729-B0A7-E486D7EBA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A638C-1218-4AC8-A6C7-5BA8CECDF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07EA7-2AAE-42CC-9A13-308E9F519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88F75-6A14-41E0-A74C-79318F224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4B748-479E-4AD7-A55B-91D85A12A509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08000" y="2060280"/>
            <a:ext cx="669312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A72C8-A8A1-4ADD-BD6A-5D2018E54C29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908000" y="2060280"/>
            <a:ext cx="669312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942920" y="3789360"/>
            <a:ext cx="6661080" cy="9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24T17:26:18Z</dcterms:modified>
  <cp:revision>17</cp:revision>
  <dc:subject/>
  <dc:title>Slide 1</dc:title>
</cp:coreProperties>
</file>