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FD06-0438-44A0-A342-3B00E4CC4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37FD-744F-4D61-9B54-552DC812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AFA1-283A-40BD-8B9C-1629683A5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8453-B6B1-41E2-AE4D-92DE08220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5DC0-43D9-4660-AA85-C43136E23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E9DB-A90F-4F2E-A81C-B9056673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7D3D-8E59-470A-85BA-C867FBB7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02FB-929F-41A2-89F8-AFB3D55E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6448-347B-4CD1-B134-C2F3045F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D356-F442-403C-8272-DB5DF023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B4C9-289A-4232-85DA-CCD6341D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11B0-A4A2-446E-9C38-448A751F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94F8-5907-4F55-A6A9-271DE420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DFB6-FC5C-4921-B54A-5BBA55E8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302C-7BCD-40D6-B210-2FAEC5C0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99BA-2A69-47EC-A55B-24E896798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C1B6-3FA5-4C9B-81CD-2F1808F8A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D296-04B1-44E5-B5DB-A4FAB215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9266-D5D5-4C5C-9039-B1210A63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571A-78FB-48E5-8DD8-AB584C44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AA9A-15C6-4273-9D63-F159EF06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13AC-5C48-4897-96AA-53725874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F19D-E7FB-4E32-8556-954D7D0F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4F75-CE81-4B70-B80A-C918EE2A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5366-75CB-4BBF-AACC-8E9CE0E5199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292B-7D80-4AFA-8547-1FF3FE88B25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6:18Z</dcterms:modified>
  <cp:revision>17</cp:revision>
  <dc:subject/>
  <dc:title>Slide 1</dc:title>
</cp:coreProperties>
</file>