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6FA6-6FD0-4F31-AB16-E1330B581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5512-94E5-41B9-9775-334EF348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AEB8-0F98-47DA-BAAC-3B6FCF2F3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24F8-E008-4FC1-B6FE-5F701B0C3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D0AA-C4D6-4A5F-8543-D7BD8BE27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12EE-3251-4DC7-BF96-13919EDC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9DD0-EA66-442C-8628-27C18809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96FF-DDA0-4355-8D3D-9A9A8034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38CE-F4C3-433F-B9BC-1993FB4F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B77A-89C9-44F3-B032-D02C1A6C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DCB8-5794-4712-90F2-7A83325A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8B5D-FBA5-4CEC-9D8E-DF6B3035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1544-7192-4630-B564-82969DD2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22CE-4C66-4DB2-B94D-BAF410D0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95C5-FBB6-48B9-813A-586F42C1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761D-CFC7-46CA-9C96-B65DC9B6E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B3CB-DBB0-49FD-B151-A3318E9DC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EF35-F44B-4176-A7B4-4CF416A9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3EDE-9AF6-4CBC-90C4-2069A66B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5914-828D-4CDC-9243-E8654D4B9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6DF4-F948-4E77-85A1-9F4C8E89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C6BF-00E8-4C61-84E3-56F8BC20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F156-B584-42B5-898F-155B1681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77FB-E283-4DBB-91E5-072631A9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A27A-5675-4FF0-AD9B-37F8DEFDF6C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A366-2F56-469A-8C85-ECD000B1D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17T18:49:04Z</dcterms:modified>
  <cp:revision>15</cp:revision>
  <dc:subject/>
  <dc:title>Slide 1</dc:title>
</cp:coreProperties>
</file>