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EEF3-E8E3-4096-A3E1-0E93B27B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A0DB-C471-4253-B293-ED9640DA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D59B-A2B2-4FE3-BDCC-EA19ACC52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E52B-62BC-4703-8FC9-BAD5C7B8E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9DDE-DFB1-418C-89CA-A6656D952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00C0-2DEF-4275-A846-A4472D9E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422C2-8CB6-49C2-B34C-EFD48FC6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42D4-8884-498C-A082-1DA45810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EEF9-DA9E-49CF-9B13-5EABC98B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2AA5-DA91-4B33-A8C5-2E3E4A21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0652-560F-4D6E-988A-1BFB9E91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E8A9-CEA7-4D05-BCB8-78A49CFF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FD8F-E4C1-4EDB-975D-49AB5E4A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B867-31AC-4C22-A06F-AEF3FE17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9F17-AC6B-4530-B6C3-525DF706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A7DA-62D6-4239-86E7-4F5E8348A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62C4-354D-4D7A-AA29-4639BBF13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2AC7-4696-440F-AFA3-992FB36C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5CAF-0C07-4814-AEAC-1B41BDC6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AB23-9823-4175-82A8-7BCA169A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BB95-0088-4E82-ADA9-DF1FF3F0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84E8-69F9-4EE1-8BFF-6998001F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8BF6-5F94-4DF5-AF9E-D55E3B2C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5DB3-AF21-437E-9C9F-4C60DFF8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C6AE-78EE-4564-99F9-DAFF034B7E4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F2AB-AF54-4F50-A551-1AB1D83DC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17T18:49:04Z</dcterms:modified>
  <cp:revision>15</cp:revision>
  <dc:subject/>
  <dc:title>Slide 1</dc:title>
</cp:coreProperties>
</file>