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2F058-9BB4-4D86-8AEF-464329C9D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6260-2A0D-43F7-9347-540665829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69B8-078C-410F-9779-A0502C05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72A59-74DD-4088-B374-0AD71B1C6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6D3C0-2C14-45A5-B895-5FEAD1D968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D01B1-1553-4A14-8DDD-D8E29BC947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2ABB2-E7E5-487C-A511-F0A4DD1D8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AA8B6-D756-402B-B509-3088AF4F4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C96E2-7CFE-44A0-BBF6-DFA6493F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3BA99-48FB-4CD2-9DD9-939A66492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E86AC6-3FF9-4C7D-B09F-9D6D2E66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50B19-DD06-4FA4-AB36-BD5CC7917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EC6D8-BFCF-4C34-AC04-FFC28B7E6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B12A2-63EC-495A-B97B-F8A4AF186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E4972-9F9F-40AA-B41C-F06C03257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3128E-44E1-47DF-8480-CC5955A89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F0F61-BD4B-4395-B2F1-930DD3A97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30E-24DA-4093-A47B-4D01E4E15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2E3C8-64F9-4191-8EC6-AFD95C3212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5BCF1-A39C-474A-8E23-06E3CA784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3AF31-08A9-47E7-AC6F-6848BE989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64D3-6163-43EB-8062-9E413D9AB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25752-C81C-4A37-9A7D-765BD7E92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FF05E-89E4-4F71-B719-488F3568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1087-CC0E-4DA5-9757-D6FAEEA0893B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6E2B8-4731-4754-8381-A34B63FDD1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908000" y="2060280"/>
            <a:ext cx="6693120" cy="16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942920" y="3789360"/>
            <a:ext cx="6661080" cy="98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10T21:12:10Z</dcterms:created>
  <dc:creator>Ricardo</dc:creator>
  <dc:description/>
  <dc:language>en-US</dc:language>
  <cp:lastModifiedBy>Ricardo</cp:lastModifiedBy>
  <dcterms:modified xsi:type="dcterms:W3CDTF">2003-10-17T18:49:04Z</dcterms:modified>
  <cp:revision>15</cp:revision>
  <dc:subject/>
  <dc:title>Slide 1</dc:title>
</cp:coreProperties>
</file>