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BC6A-8434-4756-99BD-4DC391D21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271D-75C5-454C-976F-4BBA1487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69A6-7D5B-41B4-81B4-9821865D5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5CF2-3708-48BD-8B5A-65CCE4DFB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FF21-A6CF-4CAF-B1D7-02BA35022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C049-EA71-469A-AA4F-43637168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D171-1EDF-4531-9E57-051ED94D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D277-EE2A-47E8-AFF4-EDFF0E2D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F9E9-72EA-4836-92BA-20B5F17E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818A-3560-44A4-8BCE-3E40AF68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A9F8-D52C-4323-869A-19A30DEE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6E00-4D69-4CCF-803D-1020DAB2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9422-6F51-4E1D-A370-9A789F56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849D-5668-41B0-80C7-0F1F5E6E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25AF-463C-42AA-AB2F-A1D1CE62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78DC-F543-4AFD-8675-919814A75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56D6-7A79-4B54-9DD7-9BF2603AD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26F5-314C-475C-BF03-6FF966DD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EBEE-1968-401D-9CD5-49710D1B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C063-7C71-4FE7-8707-F8E0A796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23A0-FDB3-4275-89BF-21D84062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065B-D07D-41D9-9FAD-3AC1B50C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205E-D173-4CCD-91CF-BD6D48BF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F7DE-A129-435C-9C5A-885E5263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436B-A42F-47AD-81B0-012E9AE3698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D721-F9E9-4550-8D2E-FC5E10A22EC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1:07Z</dcterms:modified>
  <cp:revision>14</cp:revision>
  <dc:subject/>
  <dc:title>Slide 1</dc:title>
</cp:coreProperties>
</file>