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44E9-81E5-4C98-8A9F-2F82071C8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379B-79D1-48BA-BB14-2A15115B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5CC-7416-4423-8F2E-4BCAE7E8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1A6-AAEC-4CA0-8AF2-AA4157CA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195F-D99A-455C-90E7-0ADCCE59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FE09-56E2-4877-A633-76277174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08D6-4423-4B9E-BBC2-488FFD35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7990-4390-417F-BC31-35733254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B2A4-7DC3-42DA-91EA-46C9E2B6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9EFD-FFEF-450F-987B-53DE842B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A00B-DFD4-452F-89FB-0B273AD8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7CA-DB72-4ACA-8BF9-D1FC594B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108E-77D7-4B23-8D7C-A1B57EB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B65-78E2-4F85-8F37-6B546F0E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C839-5836-48A1-B9A6-57F3B5D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4852-AEC5-4411-851A-5590AA52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BF14-2B09-4D74-920F-984F4089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354-D42D-44DA-8B4D-BC599551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8253-1F22-45F4-A740-E90D9223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C4E-3095-4860-B94C-73B98034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900-B2A7-488C-8728-5B07638E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9DA-4254-41F4-8693-54D812A0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7999-384B-4441-9F4C-4071D1E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08E-66AB-457A-86ED-DFC91AA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CF54-7C7B-495C-B6E5-6E84C9FE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41D-6A4C-4D15-BF0C-4DC62A45C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0:26Z</dcterms:modified>
  <cp:revision>13</cp:revision>
  <dc:subject/>
  <dc:title>Slide 1</dc:title>
</cp:coreProperties>
</file>