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B984-AEE6-43B8-9E99-F4DE024B1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C2EB-F980-45F7-A6C6-D7DAD065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8758-C6B4-40CE-A2DA-E2B1E3057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9E38-C644-49F8-86E2-831B99F93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5CC9-5F8A-4A02-8CDA-8AFC0C8E2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10A0-1B20-4378-807F-5FDF9227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DA82-C50E-4E3B-88CE-61339088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47BE-905E-4751-BFFF-45D7693F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7756-DE26-4237-8CC6-4797AF71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8452-7669-40AB-B698-837A0977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845A-5066-4193-8C02-15F62942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5861-D5C1-46F2-8432-EC93B3F3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BEE0-C0E5-448D-BF3C-5ED76A23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55A8-1DDB-45DA-8803-727674C4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2C2D-6776-4590-8FA3-4A69BAE8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579A-3390-4121-A368-8FD5566B3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B966-AD33-4D4C-B843-9B218CA23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1897-39A6-49A6-BAA3-11681DDC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5590-7DC5-45B7-B964-FD94C9E3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330A-5905-4AEC-8B8D-CAC6FBB3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29FF-C683-44A4-90AA-DF116DEA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9517-0D3F-4F01-A152-31D2D22C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606F-2FCF-48B6-8EAA-2E138614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E2BC-1792-46A7-975B-4D78A81E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59BC-4A40-401E-9240-64C4AFD06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749C-CD4D-4F80-A78D-29A76E585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09:32Z</dcterms:modified>
  <cp:revision>7</cp:revision>
  <dc:subject/>
  <dc:title>Slide 1</dc:title>
</cp:coreProperties>
</file>