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B8D-5834-4AF4-97A1-60865CCD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AE4-DB42-4C22-A480-02E574FE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BBC-5E90-463E-9348-E0E4C5E1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B25-9F18-4B54-978E-D71E1F81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278-E4DD-47A2-A761-68904DA1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841-DA42-4159-93FF-5524C51A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1E5-278F-4434-A920-0B786802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1534-6179-4057-A1B1-D61E5CB7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0DA-6DDF-430D-89EB-7C45FB12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38D-400D-45A0-9C9B-1DB10F44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AE41-A317-45BB-819F-13600BDB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5036-029A-4ADE-B24F-A2A01B62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52D5-3F5D-4949-BDCE-947AAB416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1898640"/>
            <a:ext cx="478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66"/>
                </a:solidFill>
                <a:latin typeface="Arial"/>
              </a:rPr>
              <a:t>Matéria –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149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66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21600" y="5877000"/>
            <a:ext cx="9144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9200" y="1916280"/>
            <a:ext cx="818352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xto peq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16360" y="4292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2072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4480b2"/>
              </a:gs>
              <a:gs pos="100000">
                <a:srgbClr val="060c1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e2820"/>
                </a:solidFill>
                <a:latin typeface="Arial"/>
              </a:rPr>
              <a:t>Título -Arial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836280"/>
            <a:ext cx="8181720" cy="957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e2820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256536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rot="1678800">
            <a:off x="1907640" y="2276280"/>
            <a:ext cx="5234040" cy="4292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87640" y="3645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8"/>
                </a:solidFill>
                <a:latin typeface="Arial"/>
              </a:rPr>
              <a:t>Dest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9:03:34Z</dcterms:created>
  <dc:creator>IMS</dc:creator>
  <dc:description/>
  <dc:language>en-US</dc:language>
  <cp:lastModifiedBy>IMS</cp:lastModifiedBy>
  <dcterms:modified xsi:type="dcterms:W3CDTF">2008-09-08T20:35:21Z</dcterms:modified>
  <cp:revision>4</cp:revision>
  <dc:subject/>
  <dc:title>Slide 1</dc:title>
</cp:coreProperties>
</file>