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074-CDAB-409E-9D1D-257EA8FB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6723-9948-4EEA-9C52-46454EB1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B959-3DA9-44F8-BD52-B901D4AF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080-F7A7-42A6-B660-C00851DC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60B7-7C55-448E-8866-3D2E30D4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2DEE-95FB-4B55-B636-CF08FB0B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3E3-8C78-4BC3-B125-3875E2E8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5A16-2F4E-4CB8-8EFC-7FD346BC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A68-20D4-485D-904A-67A8C2A7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FA3E-0BB1-48F0-A877-6DFF629F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B308-9070-48BB-B7DC-568DA06A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9B02-1998-4C0A-9B8F-54A195C9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7A93-C162-43A8-8B76-3F91BF471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720" y="1898640"/>
            <a:ext cx="47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66"/>
                </a:solidFill>
                <a:latin typeface="Arial"/>
              </a:rPr>
              <a:t>Matéria –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1497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66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21600" y="5877000"/>
            <a:ext cx="9144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9200" y="1916280"/>
            <a:ext cx="818352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xto pequ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4292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2072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480b2"/>
              </a:gs>
              <a:gs pos="100000">
                <a:srgbClr val="060c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e2820"/>
                </a:solidFill>
                <a:latin typeface="Arial"/>
              </a:rPr>
              <a:t>Título -Arial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18172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e2820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2565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1678800">
            <a:off x="1907640" y="2276280"/>
            <a:ext cx="5234040" cy="4292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87640" y="3645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9:03:34Z</dcterms:created>
  <dc:creator>IMS</dc:creator>
  <dc:description/>
  <dc:language>en-US</dc:language>
  <cp:lastModifiedBy>IMS</cp:lastModifiedBy>
  <dcterms:modified xsi:type="dcterms:W3CDTF">2008-09-08T20:35:21Z</dcterms:modified>
  <cp:revision>4</cp:revision>
  <dc:subject/>
  <dc:title>Slide 1</dc:title>
</cp:coreProperties>
</file>