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6A3-AFA0-405D-98ED-D75A6639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8C9-1DF1-44CC-A094-B92403F8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5D5-F607-430D-AF6E-0A1D5215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D88-6CE2-451B-A4BC-19ACF4E7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C71-7F64-464D-9519-055EBD8E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7B6-E4CF-441A-9580-FEB319CD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ED8-5E0B-4DB6-B387-0E3B19CD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DBC-2555-4636-BD65-F71AF2A2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F238-FC1B-42D2-845D-D2472CF1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A1AF-AE9A-40E5-B6F9-20868F00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7B1-8A9C-487B-8D72-090E8E6B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00B0-1F6C-42B6-9D2C-EE5D590F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63D5-3D10-42A9-9A1A-BF0B022EF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720" y="189864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66"/>
                </a:solidFill>
                <a:latin typeface="Arial"/>
              </a:rPr>
              <a:t>Matéria –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149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66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21600" y="5877000"/>
            <a:ext cx="9144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" y="1916280"/>
            <a:ext cx="818352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xto pequ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4292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072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480b2"/>
              </a:gs>
              <a:gs pos="100000">
                <a:srgbClr val="060c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e2820"/>
                </a:solidFill>
                <a:latin typeface="Arial"/>
              </a:rPr>
              <a:t>Título -Arial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18172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e2820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678800">
            <a:off x="1907640" y="2276280"/>
            <a:ext cx="5234040" cy="4292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87640" y="3645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9:03:34Z</dcterms:created>
  <dc:creator>IMS</dc:creator>
  <dc:description/>
  <dc:language>en-US</dc:language>
  <cp:lastModifiedBy>IMS</cp:lastModifiedBy>
  <dcterms:modified xsi:type="dcterms:W3CDTF">2008-09-08T20:35:21Z</dcterms:modified>
  <cp:revision>4</cp:revision>
  <dc:subject/>
  <dc:title>Slide 1</dc:title>
</cp:coreProperties>
</file>