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EC35-E6A9-4483-8EB9-24F9307C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E3B0-FE5C-4EC6-B68C-D952FDF6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0429-EF71-4F6B-9A9B-99D6B604C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5620-918B-4582-BD55-8E773618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9B7-3F3A-4584-92C2-8DE33F9A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C403-63E3-4825-95E6-A48BC7B6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4171-30D9-486C-BF8F-C93FB22E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F742-89E9-4388-832F-59BDC238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F3A8-1A4F-48F5-A0C4-D7D9FFAF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B9A8-B032-4464-A294-60515C5D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849-86BC-4959-8B65-E0E3103D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F672-F018-43E7-BCAB-3DD59BA2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8879-AEAB-4B43-A754-C5004E7F1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720" y="1898640"/>
            <a:ext cx="478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66"/>
                </a:solidFill>
                <a:latin typeface="Arial"/>
              </a:rPr>
              <a:t>Matéria –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14972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66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21600" y="5877000"/>
            <a:ext cx="9144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9200" y="1916280"/>
            <a:ext cx="818352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xto pequ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16360" y="429264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2072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480b2"/>
              </a:gs>
              <a:gs pos="100000">
                <a:srgbClr val="060c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83664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e2820"/>
                </a:solidFill>
                <a:latin typeface="Arial"/>
              </a:rPr>
              <a:t>Título -Arial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18172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e2820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2565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1678800">
            <a:off x="1907640" y="2276280"/>
            <a:ext cx="5234040" cy="4292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87640" y="3645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9:03:34Z</dcterms:created>
  <dc:creator>IMS</dc:creator>
  <dc:description/>
  <dc:language>en-US</dc:language>
  <cp:lastModifiedBy>IMS</cp:lastModifiedBy>
  <dcterms:modified xsi:type="dcterms:W3CDTF">2008-09-08T20:35:21Z</dcterms:modified>
  <cp:revision>4</cp:revision>
  <dc:subject/>
  <dc:title>Slide 1</dc:title>
</cp:coreProperties>
</file>