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8E24-17FA-4518-A589-0FAB0EDF9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8D3-2503-46A4-B9A2-BD29FBC9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4EA7-FBC5-492E-8CA4-82447185D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7312-76F4-4855-AF81-BDBFE472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E763-37B2-4C00-9B6C-86BC1F04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371D-2348-4841-8DD8-9882C2865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4F02-2F6E-4450-B587-182ACEC7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425D-13CC-4B5A-8E85-CC738E17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0B13-8800-4540-BEE0-A7A5CB34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43A4-2E95-436F-96FD-EFCF31AC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116E-373E-418B-A693-038117A1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06C-21FC-45A9-BD40-B09BA42E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937B-A762-4E0B-A833-586E7383A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91628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ffffff"/>
                </a:solidFill>
                <a:latin typeface="Arial"/>
              </a:rPr>
              <a:t>Curso –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28464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-24300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854360"/>
            <a:ext cx="684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48"/>
                </a:solidFill>
                <a:uFillTx/>
                <a:latin typeface="Arial"/>
              </a:rPr>
              <a:t>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860640"/>
            <a:ext cx="9144000" cy="2305080"/>
          </a:xfrm>
          <a:prstGeom prst="rect">
            <a:avLst/>
          </a:prstGeom>
          <a:solidFill>
            <a:srgbClr val="5a8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115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Arial"/>
              </a:rPr>
              <a:t>Título-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400536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87488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66"/>
                </a:solidFill>
                <a:latin typeface="Arial"/>
              </a:rPr>
              <a:t>Texto –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6040" y="217620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4173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6200" y="55911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6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1051200">
            <a:off x="7768800" y="3860640"/>
            <a:ext cx="1008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6040" y="191592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8840" y="33577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ffff"/>
                </a:solidFill>
                <a:latin typeface="Arial"/>
              </a:rPr>
              <a:t>Prof. 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24:17Z</dcterms:modified>
  <cp:revision>4</cp:revision>
  <dc:subject/>
  <dc:title>Slide 1</dc:title>
</cp:coreProperties>
</file>