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0A1-BB2A-4D88-A172-3727ED1C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B0C3-5C26-407D-9AE6-2FAA48F4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AD5-B841-40CA-B08E-689CB52F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91F-4DF7-4456-B357-E3ADF1E5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5E5C-8F51-4B36-9359-0474892F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3D5-B4C4-4116-846E-5A1917A5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8B7-F635-4D6A-AD92-7E329F6E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834-D24A-4844-8B48-ABC24611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258-0D13-47D3-9051-D7A0FA95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6BB-976C-440E-9AE2-AEA29D8D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74C-82BE-48A0-B2E7-ADDB2C21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FAC-7F69-4286-B8FF-3C96FC80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2FE8-091E-4CF3-8B55-7BE6DB8DF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91628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Arial"/>
              </a:rPr>
              <a:t>Curso –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28464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-24300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54360"/>
            <a:ext cx="68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60640"/>
            <a:ext cx="9144000" cy="2305080"/>
          </a:xfrm>
          <a:prstGeom prst="rect">
            <a:avLst/>
          </a:prstGeom>
          <a:solidFill>
            <a:srgbClr val="5a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053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874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exto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2176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417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6200" y="55911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6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051200">
            <a:off x="7768800" y="3860640"/>
            <a:ext cx="100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840" y="33577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. 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24:17Z</dcterms:modified>
  <cp:revision>4</cp:revision>
  <dc:subject/>
  <dc:title>Slide 1</dc:title>
</cp:coreProperties>
</file>