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B597153-9577-4E91-9D2F-25E520B21214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B445-7576-4DC6-809C-792E6352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F04D-E168-49A4-A023-E7973BEB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CE4-CFF1-43C6-B0E2-5AF34F30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19DF-449D-4C29-B3A4-FD1C326A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36B1-FE85-4F11-BC02-02C19046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05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6120" y="530028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949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05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6120" y="5990400"/>
            <a:ext cx="26431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0908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E02-7119-4362-9C82-1D699BE9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162E-3E4F-4E0F-90EB-CBC4FA95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C7B-CE4A-49C3-BB36-2A9182E4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89000"/>
            <a:ext cx="6048360" cy="56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69A-0591-4CBC-AA50-52728EFD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4D0-30CF-43BF-963E-2CCF983D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13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160" y="599040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D5D4-B3AC-4552-AA07-EDA1A121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160" y="5300280"/>
            <a:ext cx="400572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4920" y="5990400"/>
            <a:ext cx="82090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18BC-F498-4046-B740-FAE5F01D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13EE-E2E1-4834-B10C-E26C8A496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89000"/>
            <a:ext cx="6048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660033"/>
                </a:solidFill>
                <a:latin typeface="Arial"/>
              </a:rPr>
              <a:t>Curso – Arial 36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5373720"/>
            <a:ext cx="8604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4920" y="5589720"/>
            <a:ext cx="820908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Título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3284640"/>
            <a:ext cx="604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1844640"/>
            <a:ext cx="6553440" cy="3672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99192" dir="841805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Destaqu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10920" y="2491920"/>
            <a:ext cx="4464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txtxtxtxtxtxt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xttxtxtxtxtxtx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238360" y="3140280"/>
            <a:ext cx="2671200" cy="2036520"/>
            <a:chOff x="5238360" y="3140280"/>
            <a:chExt cx="2671200" cy="2036520"/>
          </a:xfrm>
        </p:grpSpPr>
        <p:sp>
          <p:nvSpPr>
            <p:cNvPr id="94" name=""/>
            <p:cNvSpPr/>
            <p:nvPr/>
          </p:nvSpPr>
          <p:spPr>
            <a:xfrm rot="18953400">
              <a:off x="551988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2775600">
              <a:off x="6594840" y="2987280"/>
              <a:ext cx="565920" cy="231408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8680 h 2314080"/>
                <a:gd name="textAreaBottom" fmla="*/ 1805400 h 23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00000" y="1771200"/>
            <a:ext cx="7499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 1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3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4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6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ópico7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ópico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349240" y="3140280"/>
            <a:ext cx="2671200" cy="2036520"/>
            <a:chOff x="5349240" y="3140280"/>
            <a:chExt cx="2671200" cy="2036520"/>
          </a:xfrm>
        </p:grpSpPr>
        <p:sp>
          <p:nvSpPr>
            <p:cNvPr id="99" name=""/>
            <p:cNvSpPr/>
            <p:nvPr/>
          </p:nvSpPr>
          <p:spPr>
            <a:xfrm rot="18953400">
              <a:off x="5630760" y="3930480"/>
              <a:ext cx="791280" cy="1130040"/>
            </a:xfrm>
            <a:custGeom>
              <a:avLst/>
              <a:gdLst>
                <a:gd name="textAreaLeft" fmla="*/ 173880 w 791280"/>
                <a:gd name="textAreaRight" fmla="*/ 617400 w 791280"/>
                <a:gd name="textAreaTop" fmla="*/ 248400 h 1130040"/>
                <a:gd name="textAreaBottom" fmla="*/ 881640 h 11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775600">
              <a:off x="6705720" y="2987280"/>
              <a:ext cx="565920" cy="2314440"/>
            </a:xfrm>
            <a:custGeom>
              <a:avLst/>
              <a:gdLst>
                <a:gd name="textAreaLeft" fmla="*/ 124200 w 565920"/>
                <a:gd name="textAreaRight" fmla="*/ 441720 w 565920"/>
                <a:gd name="textAreaTop" fmla="*/ 509040 h 2314440"/>
                <a:gd name="textAreaBottom" fmla="*/ 1805400 h 23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xto long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1771560"/>
            <a:ext cx="7993080" cy="4033800"/>
          </a:xfrm>
          <a:prstGeom prst="flowChartDocument">
            <a:avLst/>
          </a:prstGeom>
          <a:solidFill>
            <a:srgbClr val="eaeaea"/>
          </a:solidFill>
          <a:ln w="76320">
            <a:solidFill>
              <a:srgbClr val="99cc00"/>
            </a:solidFill>
            <a:miter/>
          </a:ln>
          <a:effectLst>
            <a:outerShdw dist="89604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3760" y="105264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“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31360" y="4363920"/>
            <a:ext cx="726480" cy="205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55964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 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itaçã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355640" y="1700280"/>
            <a:ext cx="4248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EXTO TEX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om foto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1882800"/>
            <a:ext cx="3417840" cy="3417840"/>
          </a:xfrm>
          <a:prstGeom prst="rect">
            <a:avLst/>
          </a:prstGeom>
          <a:ln w="76320">
            <a:solidFill>
              <a:srgbClr val="99cc00"/>
            </a:solidFill>
            <a:miter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empo para dúvidas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489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ÚVIDA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16360" y="3789360"/>
            <a:ext cx="1629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6699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6699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4" name=""/>
          <p:cNvSpPr txBox="1"/>
          <p:nvPr/>
        </p:nvSpPr>
        <p:spPr>
          <a:xfrm rot="20284200">
            <a:off x="6369120" y="3068640"/>
            <a:ext cx="790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00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00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660033"/>
                </a:solidFill>
                <a:latin typeface="Arial"/>
              </a:rPr>
              <a:t>Boa Semana!</a:t>
            </a:r>
            <a:endParaRPr b="1" lang="en-US" sz="4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360" y="292392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Prof. – Arial 32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5300640"/>
            <a:ext cx="828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ferência de image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66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odas as imagens são originárias de banco de image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2:00:29Z</dcterms:created>
  <dc:creator>IMS</dc:creator>
  <dc:description/>
  <dc:language>en-US</dc:language>
  <cp:lastModifiedBy>IMS</cp:lastModifiedBy>
  <dcterms:modified xsi:type="dcterms:W3CDTF">2008-09-08T20:09:52Z</dcterms:modified>
  <cp:revision>43</cp:revision>
  <dc:subject/>
  <dc:title>Curso: Arial 48 neg.</dc:title>
</cp:coreProperties>
</file>