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6B99-C1E6-4B0F-9811-77BB57AD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E4A3-4949-4913-91CA-A7C9A2B0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CB8B-7810-4A46-A82E-E0BF2339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C993-AE75-45EA-B54F-FC3D35B1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422E-1D07-4729-84C3-88B4E0FC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48C0-8B29-436E-B39D-65AAEA18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EE30-FE31-46BE-A863-B7A22766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83C4-386F-421C-A077-EB1460D2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2904-1005-4B92-914F-2047EE30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8500-2200-4A4C-93B8-8BE782F9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CEFC-C377-4996-A534-C85F4669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CA73-42ED-45B1-B89E-169FA656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9306-15CD-4BED-932C-DB309419F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34792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000048"/>
                </a:solidFill>
                <a:latin typeface="Arial"/>
              </a:rPr>
              <a:t>Curso-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1628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11592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557360"/>
            <a:ext cx="68421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6200" y="58323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4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49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51200">
            <a:off x="7464240" y="3817800"/>
            <a:ext cx="2003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256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48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37879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18:46Z</dcterms:modified>
  <cp:revision>6</cp:revision>
  <dc:subject/>
  <dc:title>Slide 1</dc:title>
</cp:coreProperties>
</file>