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8B2E-37F3-4589-A234-12217F76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430D-6EE5-4FAF-83A4-AD14E5F5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AD1-E297-46A9-AD13-921F4284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1AF2-5004-45D6-9082-034BD00C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9621-7B32-48DE-99DB-A2C18F96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858C-B1AE-4E2D-9E35-F683112F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70C3-5BB0-4F8C-A774-F03C5928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2958-BBE7-408B-824C-85029B75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6019-27A6-4706-89AC-147355F5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D275-7476-48A3-B64F-A286C6F6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4E92-F596-4B96-9757-D127FC6C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466B-48FA-41F4-8C56-53C7D0DF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BDF1-5E6B-440F-AC5A-176927725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34792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000048"/>
                </a:solidFill>
                <a:latin typeface="Arial"/>
              </a:rPr>
              <a:t>Curso-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71628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11592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557360"/>
            <a:ext cx="68421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6200" y="58323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4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49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51200">
            <a:off x="7464240" y="3817800"/>
            <a:ext cx="2003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256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48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37879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18:46Z</dcterms:modified>
  <cp:revision>6</cp:revision>
  <dc:subject/>
  <dc:title>Slide 1</dc:title>
</cp:coreProperties>
</file>