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4489-FED3-4251-ACF6-AAF5B6989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9DAD-8179-406E-8847-2C7E38BF3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D6D7-A8A2-4FE3-8C27-2FA9D952B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244A-469E-42CD-B569-175D6D4DB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7BDD-5880-4997-B53A-4E436603B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7695-2BA3-41B6-A6E3-52711094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0089-9645-4C73-85DF-CEBB41DC8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6B08-0E75-4606-8491-561578635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B895-B65A-4CA4-8064-4AB65B306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392A-0713-46BD-84ED-73D0104D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E62C-B248-4EF5-AA94-59F7E577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144F-8A8F-4228-8DF4-51B02748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BD9D9-4938-4412-9A0A-29EDA169A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50:24Z</dcterms:modified>
  <cp:revision>5</cp:revision>
  <dc:subject/>
  <dc:title>Slide 1</dc:title>
</cp:coreProperties>
</file>