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6BA5-AE10-464A-AE47-50B499749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42A6-2E5E-427D-A48D-C8259895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89F6-BED2-499A-944E-1E40564D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0B30-AAB7-4B4E-8961-D88A538CE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22E0-3B76-4025-B15B-31177B17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15A4-67A1-4721-9115-84A5D669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76FE-819F-41AB-B218-AA55ED8A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CB05-AAEC-479C-BA33-8BD36F33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6251-8A75-4AF4-A756-2A947638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B6C5-CC97-4CB1-9454-22870846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4413-C78A-48BE-8423-D2F8D150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12B0-B4BC-4C00-93C6-4AA214B6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5E03-96A1-4001-8EC0-5491E8C48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24Z</dcterms:modified>
  <cp:revision>5</cp:revision>
  <dc:subject/>
  <dc:title>Slide 1</dc:title>
</cp:coreProperties>
</file>