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D548-B377-45A5-9E84-7AEA9C2E1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A966-5381-4BEE-9371-FF4BFC8F5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09F4-2DD6-4A90-B349-B38F27088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B35F-9405-4208-A4B6-114924638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2DF1-FDD5-47F6-A2BD-2620A2E63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CADF-C272-49D7-A3F4-F2A5175A5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D013-D469-4365-9A13-6F4CA4F6E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C0E7-CC4C-4EDE-8750-07461F162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0D06-6678-44B8-8495-503E60244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8FB7-7E6A-400F-846A-E4DADD5DD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7D71-A814-47A6-BB98-3D4A54DC1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DE2C-51B6-4C35-969C-210216557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E9FBE-3C28-4AEC-A6E1-B7319A6643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5:47:45Z</dcterms:created>
  <dc:creator>ricardo.scantamburlo</dc:creator>
  <dc:description/>
  <dc:language>en-US</dc:language>
  <cp:lastModifiedBy>ricardo.scantamburlo</cp:lastModifiedBy>
  <dcterms:modified xsi:type="dcterms:W3CDTF">2005-01-31T15:50:01Z</dcterms:modified>
  <cp:revision>4</cp:revision>
  <dc:subject/>
  <dc:title>Slide 1</dc:title>
</cp:coreProperties>
</file>