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2F58-A925-4B58-8D76-8052369CF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D2AB-2CAF-4465-81DC-FADB965E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97CA-3DDC-42DB-890D-B1FA70B81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A73D-B3DD-4146-8E42-32CFCA25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E49D-CD79-408A-8AD3-273B7B60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1FE0-D7AE-4283-9B3C-44AAE5CD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F7DA-EA56-483D-9EA4-4ADAB829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DBDE-E411-42BE-AAA1-60E8DE30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7EEE-5F58-4FCF-8893-51C00078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BDAE-CBCB-48D8-8416-2DDCDD82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B58E-EC3C-4766-824D-1C5EAEFB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B640-CAA9-4EB0-931E-878155E1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9CDB-2B7A-46FF-A46C-40140C6BC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01Z</dcterms:modified>
  <cp:revision>4</cp:revision>
  <dc:subject/>
  <dc:title>Slide 1</dc:title>
</cp:coreProperties>
</file>