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4A2-0957-43EA-BF49-D9677A21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3E7-DEFC-4CAC-8EB6-77E39B58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7EF-C765-4BEE-BAFF-97B759E6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2DA-04A7-4DB5-9DFB-97B4BF3D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373-E6F8-42F2-A742-CF200F62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6FEE-9139-413F-AAD8-0BAFF36B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AA4-BAB0-4E67-A818-C975D755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49D-88C3-411B-8E27-D830D81D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63A-638C-4AD9-8615-2062D9BD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31F-BD74-42C4-8281-8E07B27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BDC-86E8-4F71-BFDC-8F058729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F2A-218C-4578-B1C6-49C84ED7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F555-81EB-4AA7-BCF3-1FD00DFFB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50:01Z</dcterms:modified>
  <cp:revision>4</cp:revision>
  <dc:subject/>
  <dc:title>Slide 1</dc:title>
</cp:coreProperties>
</file>